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61.png" ContentType="image/png"/>
  <Override PartName="/ppt/media/image4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60.png" ContentType="image/png"/>
  <Override PartName="/ppt/media/image29.png" ContentType="image/png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58.png" ContentType="image/png"/>
  <Override PartName="/ppt/media/image57.png" ContentType="image/png"/>
  <Override PartName="/ppt/media/image34.pct" ContentType="image/x-pict"/>
  <Override PartName="/ppt/media/image20.png" ContentType="image/png"/>
  <Override PartName="/ppt/media/image15.jpeg" ContentType="image/jpeg"/>
  <Override PartName="/ppt/media/image28.png" ContentType="image/png"/>
  <Override PartName="/ppt/media/image5.png" ContentType="image/png"/>
  <Override PartName="/ppt/media/image17.png" ContentType="image/png"/>
  <Override PartName="/ppt/media/image25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.jpeg" ContentType="image/jpeg"/>
  <Override PartName="/ppt/media/image21.png" ContentType="image/png"/>
  <Override PartName="/ppt/media/image35.pct" ContentType="image/x-pict"/>
  <Override PartName="/ppt/media/image38.png" ContentType="image/png"/>
  <Override PartName="/ppt/media/image22.png" ContentType="image/png"/>
  <Override PartName="/ppt/media/image59.png" ContentType="image/png"/>
  <Override PartName="/ppt/media/image10.pct" ContentType="image/x-pict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120" y="1828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1120" y="5245200"/>
            <a:ext cx="109220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09920" y="276840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96516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0976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85436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1003320" y="8064360"/>
            <a:ext cx="10998360" cy="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3"/>
          <a:stretch/>
        </p:blipFill>
        <p:spPr>
          <a:xfrm>
            <a:off x="1003320" y="8064360"/>
            <a:ext cx="10998360" cy="637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101592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90512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34936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349360" indent="-571320">
              <a:spcBef>
                <a:spcPts val="7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349360" indent="-571320">
              <a:spcBef>
                <a:spcPts val="7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96516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0976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85436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54400" indent="-554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985320" indent="-554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16600" indent="-554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847880" indent="-554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278800" indent="-554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278800" indent="-554040">
              <a:spcBef>
                <a:spcPts val="7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278800" indent="-554040">
              <a:spcBef>
                <a:spcPts val="7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1120" y="6959520"/>
            <a:ext cx="10922040" cy="101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41120" y="8292960"/>
            <a:ext cx="1092204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003320" y="811548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1120" y="2971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1041120" y="1828440"/>
            <a:ext cx="1092204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491400" indent="-491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2980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12120" indent="-491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594440" indent="-491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197676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197676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197676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ct"/><Relationship Id="rId3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1120" y="1828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Gridworld</a:t>
            </a:r>
            <a:br>
              <a:rPr sz="6400"/>
            </a:b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Overview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41120" y="5245200"/>
            <a:ext cx="109220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hris Thiel, OFMcap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FHS APCS 2013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1120" y="1828800"/>
            <a:ext cx="109220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BOX BUG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1120" y="3835440"/>
            <a:ext cx="10922040" cy="431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Moves like BUG, but turns 90°, 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makes a box after a given number of turns to leave behind a square if it can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If blocked, turns twice to right and starts again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ode in appendix on page C3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536840" y="1522080"/>
            <a:ext cx="6505560" cy="66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import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info.gridworld.actor.Bug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/**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* A &lt;code&gt;BoxBug&lt;/code&gt; traces out a square "box" of a given size. &lt;br /&gt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* The implementation of this class is testable on the AP CS A and AB exams.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*/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public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class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BoxBug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extends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Bug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{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private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int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steps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private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int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sideLength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/**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* Constructs a box bug that traces a square of a given side length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* </a:t>
            </a:r>
            <a:r>
              <a:rPr b="0" lang="en-US" sz="1100" spc="-1" strike="noStrike">
                <a:solidFill>
                  <a:srgbClr val="023d10"/>
                </a:solidFill>
                <a:latin typeface="Menlo Regular"/>
                <a:ea typeface="Menlo Regular"/>
              </a:rPr>
              <a:t>@param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length the side length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*/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public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BoxBug(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int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length)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{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steps = </a:t>
            </a:r>
            <a:r>
              <a:rPr b="0" lang="en-US" sz="1100" spc="-1" strike="noStrike">
                <a:solidFill>
                  <a:srgbClr val="1c00cf"/>
                </a:solidFill>
                <a:latin typeface="Menlo Regular"/>
                <a:ea typeface="Menlo Regular"/>
              </a:rPr>
              <a:t>0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sideLength = length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}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/**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* Moves to the next location of the square.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*/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public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void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act()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{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if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(steps &lt; sideLength &amp;&amp; canMove())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{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move()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steps++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}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else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{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turn()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turn()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steps = </a:t>
            </a:r>
            <a:r>
              <a:rPr b="0" lang="en-US" sz="1100" spc="-1" strike="noStrike">
                <a:solidFill>
                  <a:srgbClr val="1c00cf"/>
                </a:solidFill>
                <a:latin typeface="Menlo Regular"/>
                <a:ea typeface="Menlo Regular"/>
              </a:rPr>
              <a:t>0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}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}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}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31" name=""/>
          <p:cNvSpPr/>
          <p:nvPr/>
        </p:nvSpPr>
        <p:spPr>
          <a:xfrm>
            <a:off x="3937320" y="608040"/>
            <a:ext cx="4072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PAGE C3: BOX BUG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41120" y="1828440"/>
            <a:ext cx="1092204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CRITTER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41120" y="2946240"/>
            <a:ext cx="10922040" cy="534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Gets a list of of adjacent location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eats each flower or bug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moves to random adjacen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If none empty it doesnt move (?or turn? check!)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ode in appendix on pages C4-C6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533520" y="368280"/>
            <a:ext cx="4978440" cy="72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/**</a:t>
            </a:r>
            <a:br>
              <a:rPr sz="1100"/>
            </a:b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1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A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Critter </a:t>
            </a:r>
            <a:r>
              <a:rPr b="0" lang="en-US" sz="11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is an actor that moves through its world, processing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1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other actors in some way and then moving to a new location.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1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Define your own critters by extending this class and overriding any methods of this class except for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act. * </a:t>
            </a:r>
            <a:r>
              <a:rPr b="0" lang="en-US" sz="11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When you override these methods, be sure to preserve the postconditions.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1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The implementation of this class is testable on the AP CS A and AB Exams.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*/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public class Critter extends Actor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{ /**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1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A critter acts by getting a list of other actors, processing that list, getting locations to move to,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1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selecting one of them, and moving to the selected location.</a:t>
            </a:r>
            <a:br>
              <a:rPr sz="1100"/>
            </a:b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*/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public void act()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{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if (getGrid() == null)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return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ArrayList&lt;Actor&gt; actors = getActors()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processActors(actors)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ArrayList&lt;Location&gt; moveLocs = getMoveLocations()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Location loc = selectMoveLocation(moveLocs)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makeMove(loc)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}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/**</a:t>
            </a:r>
            <a:br>
              <a:rPr sz="1100"/>
            </a:b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1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Gets the actors for processing. Implemented to return the actors that occupy neighboring grid locations.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1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Override this method in subclasses to look elsewhere for actors to process.</a:t>
            </a:r>
            <a:br>
              <a:rPr sz="1100"/>
            </a:b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1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Postcondition: The state of all actors is unchanged.</a:t>
            </a:r>
            <a:br>
              <a:rPr sz="1100"/>
            </a:b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* @return </a:t>
            </a:r>
            <a:r>
              <a:rPr b="0" lang="en-US" sz="11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a list of actors that this critter wishes to process</a:t>
            </a:r>
            <a:br>
              <a:rPr sz="1100"/>
            </a:b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*/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public ArrayList&lt;Actor&gt; getActors()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{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return getGrid().getNeighbors(getLocation())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Courier New"/>
                <a:ea typeface="Courier New"/>
              </a:rPr>
              <a:t>}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35" name=""/>
          <p:cNvSpPr/>
          <p:nvPr/>
        </p:nvSpPr>
        <p:spPr>
          <a:xfrm>
            <a:off x="5753160" y="647640"/>
            <a:ext cx="4724280" cy="84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/**</a:t>
            </a:r>
            <a:br>
              <a:rPr sz="1000"/>
            </a:b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Processes the elements of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actors.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New actors may be added to empty locations.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Implemented to “eat” (i.e., remove) selected actors that are not rocks or critters.</a:t>
            </a:r>
            <a:br>
              <a:rPr sz="1000"/>
            </a:b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Override this method in subclasses to process actors in a different way.</a:t>
            </a:r>
            <a:br>
              <a:rPr sz="1000"/>
            </a:b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Postcondition: (1) The state of all actors in the grid other than this critter and the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elements of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actors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is unchanged. (2) The location of this critter is unchanged.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@param actors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the actors to be processed</a:t>
            </a:r>
            <a:br>
              <a:rPr sz="1000"/>
            </a:b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/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public void processActors(ArrayList&lt;Actor&gt; actors)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for (Actor a : actors)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if (!(a instanceof Rock) &amp;&amp; !(a instanceof Critter))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 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a.removeSelfFromGrid();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} }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/**</a:t>
            </a:r>
            <a:br>
              <a:rPr sz="1000"/>
            </a:b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Gets a list of possible locations for the next move. These locations must be valid in the grid of this critter.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Implemented to return the empty neighboring locations. Override this method in subclasses to look</a:t>
            </a:r>
            <a:br>
              <a:rPr sz="1000"/>
            </a:b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elsewhere for move locations.</a:t>
            </a:r>
            <a:br>
              <a:rPr sz="1000"/>
            </a:b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Postcondition: The state of all actors is unchanged.</a:t>
            </a:r>
            <a:br>
              <a:rPr sz="1000"/>
            </a:b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@return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a list of possible locations for the next move</a:t>
            </a:r>
            <a:br>
              <a:rPr sz="1000"/>
            </a:b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/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public ArrayList&lt;Location&gt; getMoveLocations()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return getGrid().getEmptyAdjacentLocations(getLocation());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/**</a:t>
            </a:r>
            <a:br>
              <a:rPr sz="1000"/>
            </a:b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Selects the location for the next move. Implemented to randomly pick one of the possible locations,</a:t>
            </a:r>
            <a:br>
              <a:rPr sz="1000"/>
            </a:b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or to return the current location if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locs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has size 0. Override this method in subclasses that</a:t>
            </a:r>
            <a:br>
              <a:rPr sz="1000"/>
            </a:b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have another mechanism for selecting the next move location.</a:t>
            </a:r>
            <a:br>
              <a:rPr sz="1000"/>
            </a:b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Postcondition: (1) The returned location is an element of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locs,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this critter’s current location, or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null. *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(2) The state of all actors is unchanged.</a:t>
            </a:r>
            <a:br>
              <a:rPr sz="1000"/>
            </a:b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@param locs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the possible locations for the next move</a:t>
            </a:r>
            <a:br>
              <a:rPr sz="1000"/>
            </a:b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 @return </a:t>
            </a:r>
            <a:r>
              <a:rPr b="0" lang="en-US" sz="10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the location that was selected for the next move</a:t>
            </a:r>
            <a:br>
              <a:rPr sz="1000"/>
            </a:b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*/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public Location selectMoveLocation(ArrayList&lt;Location&gt; locs)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int n = locs.size();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if (n == 0)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return getLocation();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int r = (int) (Math.random()  * n);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return locs.get(r);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33e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36" name=""/>
          <p:cNvSpPr/>
          <p:nvPr/>
        </p:nvSpPr>
        <p:spPr>
          <a:xfrm>
            <a:off x="9563040" y="7886880"/>
            <a:ext cx="334008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3e"/>
                </a:solidFill>
                <a:latin typeface="Courier New"/>
                <a:ea typeface="Courier New"/>
              </a:rPr>
              <a:t>public void makeMove(Location loc)</a:t>
            </a:r>
            <a:endParaRPr b="0" lang="en-US" sz="9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3e"/>
                </a:solidFill>
                <a:latin typeface="Courier New"/>
                <a:ea typeface="Courier New"/>
              </a:rPr>
              <a:t>{</a:t>
            </a:r>
            <a:endParaRPr b="0" lang="en-US" sz="9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900" spc="-1" strike="noStrike">
                <a:solidFill>
                  <a:srgbClr val="49433e"/>
                </a:solidFill>
                <a:latin typeface="Courier New"/>
                <a:ea typeface="Courier New"/>
              </a:rPr>
              <a:t>if (loc == null)</a:t>
            </a:r>
            <a:endParaRPr b="0" lang="en-US" sz="9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49433e"/>
                </a:solidFill>
                <a:latin typeface="Courier New"/>
                <a:ea typeface="Courier New"/>
              </a:rPr>
              <a:t>removeSelfFromGrid();</a:t>
            </a:r>
            <a:endParaRPr b="0" lang="en-US" sz="9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900" spc="-1" strike="noStrike">
                <a:solidFill>
                  <a:srgbClr val="49433e"/>
                </a:solidFill>
                <a:latin typeface="Courier New"/>
                <a:ea typeface="Courier New"/>
              </a:rPr>
              <a:t>else</a:t>
            </a:r>
            <a:endParaRPr b="0" lang="en-US" sz="9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49433e"/>
                </a:solidFill>
                <a:latin typeface="Courier New"/>
                <a:ea typeface="Courier New"/>
              </a:rPr>
              <a:t>moveTo(loc);</a:t>
            </a:r>
            <a:endParaRPr b="0" lang="en-US" sz="9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3e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49433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41120" y="1828440"/>
            <a:ext cx="1092204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chameleon CRITTER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41120" y="2946240"/>
            <a:ext cx="10922040" cy="534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Gets a list of of adjacent neighbor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witches its color to the same as a random neighbor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moves to random adjacent available location, but before it does changes its direction to face its new location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ode in Appendix on C6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378240" y="1238400"/>
            <a:ext cx="7124760" cy="72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9433e"/>
                </a:solidFill>
                <a:latin typeface="Courier New"/>
                <a:ea typeface="Courier New"/>
              </a:rPr>
              <a:t>ChameleonCritter.java</a:t>
            </a:r>
            <a:endParaRPr b="0" lang="en-US" sz="2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import info.gridworld.actor.Actor;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import info.gridworld.actor.Critter;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import info.gridworld.grid.Location;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import java.util.ArrayList;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/**</a:t>
            </a:r>
            <a:br>
              <a:rPr sz="1300"/>
            </a:b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3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A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ChameleonCritter </a:t>
            </a:r>
            <a:r>
              <a:rPr b="0" lang="en-US" sz="13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takes on the color of neighboring actors as it moves through the grid.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3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The implementation of this class is testable on the AP CS A and AB Exams.</a:t>
            </a:r>
            <a:br>
              <a:rPr sz="1300"/>
            </a:b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*/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public class ChameleonCritter extends Critter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{ /**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3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Randomly selects a neighbor and changes this critter’s color to be the same as that neighbor’s.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3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If there are no neighbors, no action is taken.</a:t>
            </a:r>
            <a:br>
              <a:rPr sz="1300"/>
            </a:b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*/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public void processActors(ArrayList&lt;Actor&gt; actors)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{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int n = actors.size();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if (n == 0)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 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return;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int r = (int) (Math.random()  * n);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Actor other = actors.get(r);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setColor(other.getColor());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}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/**</a:t>
            </a:r>
            <a:br>
              <a:rPr sz="1300"/>
            </a:b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* </a:t>
            </a:r>
            <a:r>
              <a:rPr b="0" lang="en-US" sz="1300" spc="-1" strike="noStrike">
                <a:solidFill>
                  <a:srgbClr val="49433e"/>
                </a:solidFill>
                <a:latin typeface="Times New Roman"/>
                <a:ea typeface="Times New Roman"/>
              </a:rPr>
              <a:t>Turns towards the new location as it moves.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*/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public void makeMove(Location loc)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{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setDirection(getLocation().getDirectionToward(loc));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super.makeMove(loc);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9433e"/>
                </a:solidFill>
                <a:latin typeface="Courier New"/>
                <a:ea typeface="Courier New"/>
              </a:rPr>
              <a:t>} }</a:t>
            </a: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1120" y="1828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Location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41120" y="5244840"/>
            <a:ext cx="1092204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49433e"/>
              </a:buClr>
              <a:buSzPct val="125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encapsulates row and column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49433e"/>
              </a:buClr>
              <a:buSzPct val="125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has compass directions and angle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49433e"/>
              </a:buClr>
              <a:buSzPct val="125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Has methods for relationships between 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49433e"/>
              </a:buClr>
              <a:buSzPct val="125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angles, compass direction and other location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49433e"/>
              </a:buClr>
              <a:buSzPct val="125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Use page B1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711360" y="596880"/>
            <a:ext cx="3009600" cy="20829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3911760" y="609480"/>
            <a:ext cx="3276360" cy="2324160"/>
          </a:xfrm>
          <a:prstGeom prst="rect">
            <a:avLst/>
          </a:prstGeom>
          <a:ln w="0">
            <a:noFill/>
          </a:ln>
        </p:spPr>
      </p:pic>
      <p:grpSp>
        <p:nvGrpSpPr>
          <p:cNvPr id="544" name=""/>
          <p:cNvGrpSpPr/>
          <p:nvPr/>
        </p:nvGrpSpPr>
        <p:grpSpPr>
          <a:xfrm>
            <a:off x="7331400" y="277920"/>
            <a:ext cx="5170680" cy="3812760"/>
            <a:chOff x="7331400" y="277920"/>
            <a:chExt cx="5170680" cy="3812760"/>
          </a:xfrm>
        </p:grpSpPr>
        <p:pic>
          <p:nvPicPr>
            <p:cNvPr id="545" name="" descr=""/>
            <p:cNvPicPr/>
            <p:nvPr/>
          </p:nvPicPr>
          <p:blipFill>
            <a:blip r:embed="rId4"/>
            <a:stretch/>
          </p:blipFill>
          <p:spPr>
            <a:xfrm>
              <a:off x="9879480" y="792360"/>
              <a:ext cx="495360" cy="26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5"/>
            <a:stretch/>
          </p:blipFill>
          <p:spPr>
            <a:xfrm>
              <a:off x="8938080" y="1838520"/>
              <a:ext cx="242604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9714600" y="277920"/>
              <a:ext cx="872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N=0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476280" y="3541680"/>
              <a:ext cx="13006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S=180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460600" y="1814760"/>
              <a:ext cx="1041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E=90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31400" y="1827360"/>
              <a:ext cx="1474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W=270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0" y="3073680"/>
            <a:ext cx="9546120" cy="672840"/>
            <a:chOff x="0" y="3073680"/>
            <a:chExt cx="9546120" cy="672840"/>
          </a:xfrm>
        </p:grpSpPr>
        <p:sp>
          <p:nvSpPr>
            <p:cNvPr id="552" name=""/>
            <p:cNvSpPr/>
            <p:nvPr/>
          </p:nvSpPr>
          <p:spPr>
            <a:xfrm>
              <a:off x="5704920" y="3097440"/>
              <a:ext cx="3841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Location.NORTH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0" y="3073680"/>
              <a:ext cx="65912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using outside the class: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</p:grp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0330200" y="8479440"/>
            <a:ext cx="1555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EXAMPL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55" name=""/>
          <p:cNvSpPr/>
          <p:nvPr/>
        </p:nvSpPr>
        <p:spPr>
          <a:xfrm>
            <a:off x="239760" y="4102200"/>
            <a:ext cx="12979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49433e"/>
                </a:solidFill>
                <a:latin typeface="Courier New"/>
                <a:ea typeface="Courier New"/>
              </a:rPr>
              <a:t>setDirection(getDirection() + Location.RIGHT);</a:t>
            </a:r>
            <a:endParaRPr b="0" lang="en-US" sz="31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14520" y="2500200"/>
            <a:ext cx="4165920" cy="1741320"/>
            <a:chOff x="614520" y="2500200"/>
            <a:chExt cx="4165920" cy="1741320"/>
          </a:xfrm>
        </p:grpSpPr>
        <p:sp>
          <p:nvSpPr>
            <p:cNvPr id="557" name=""/>
            <p:cNvSpPr/>
            <p:nvPr/>
          </p:nvSpPr>
          <p:spPr>
            <a:xfrm>
              <a:off x="614520" y="2500200"/>
              <a:ext cx="4165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change direction to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5400000">
              <a:off x="2055960" y="2971440"/>
              <a:ext cx="1269720" cy="1270080"/>
            </a:xfrm>
            <a:prstGeom prst="rightArrow">
              <a:avLst>
                <a:gd name="adj1" fmla="val 32000"/>
                <a:gd name="adj2" fmla="val 44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119480" y="4672080"/>
            <a:ext cx="4551480" cy="1894680"/>
            <a:chOff x="4119480" y="4672080"/>
            <a:chExt cx="4551480" cy="1894680"/>
          </a:xfrm>
        </p:grpSpPr>
        <p:sp>
          <p:nvSpPr>
            <p:cNvPr id="560" name=""/>
            <p:cNvSpPr/>
            <p:nvPr/>
          </p:nvSpPr>
          <p:spPr>
            <a:xfrm>
              <a:off x="4119480" y="6017760"/>
              <a:ext cx="4551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the current direction 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6200000">
              <a:off x="5408640" y="4672440"/>
              <a:ext cx="1270800" cy="1270080"/>
            </a:xfrm>
            <a:prstGeom prst="rightArrow">
              <a:avLst>
                <a:gd name="adj1" fmla="val 32000"/>
                <a:gd name="adj2" fmla="val 4402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9651960" y="4673520"/>
            <a:ext cx="1270080" cy="1893600"/>
            <a:chOff x="9651960" y="4673520"/>
            <a:chExt cx="1270080" cy="1893600"/>
          </a:xfrm>
        </p:grpSpPr>
        <p:sp>
          <p:nvSpPr>
            <p:cNvPr id="563" name=""/>
            <p:cNvSpPr/>
            <p:nvPr/>
          </p:nvSpPr>
          <p:spPr>
            <a:xfrm>
              <a:off x="9980640" y="6018120"/>
              <a:ext cx="906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+ 90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6200000">
              <a:off x="9651960" y="4673520"/>
              <a:ext cx="1270080" cy="1270080"/>
            </a:xfrm>
            <a:prstGeom prst="rightArrow">
              <a:avLst>
                <a:gd name="adj1" fmla="val 32000"/>
                <a:gd name="adj2" fmla="val 44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</p:grp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145880" y="8479440"/>
            <a:ext cx="1780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LOCATION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267080" y="4305240"/>
            <a:ext cx="3009960" cy="20829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749160" y="4178160"/>
            <a:ext cx="3276720" cy="23241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507960" y="507960"/>
            <a:ext cx="11506320" cy="33433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8204040" y="3708360"/>
            <a:ext cx="3543480" cy="44323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635040" y="785880"/>
            <a:ext cx="8394840" cy="24400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6743880" y="1778040"/>
            <a:ext cx="5638680" cy="6578640"/>
          </a:xfrm>
          <a:prstGeom prst="rect">
            <a:avLst/>
          </a:prstGeom>
          <a:ln w="0">
            <a:noFill/>
          </a:ln>
          <a:effectLst>
            <a:outerShdw dist="76294" dir="6783395" blurRad="0" rotWithShape="0">
              <a:srgbClr val="000000">
                <a:alpha val="75000"/>
              </a:srgbClr>
            </a:outerShdw>
          </a:effectLst>
        </p:spPr>
      </p:pic>
      <p:sp>
        <p:nvSpPr>
          <p:cNvPr id="572" name=""/>
          <p:cNvSpPr/>
          <p:nvPr/>
        </p:nvSpPr>
        <p:spPr>
          <a:xfrm>
            <a:off x="10006560" y="8479440"/>
            <a:ext cx="1881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ACTOR - B3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73" name=""/>
          <p:cNvSpPr/>
          <p:nvPr/>
        </p:nvSpPr>
        <p:spPr>
          <a:xfrm>
            <a:off x="1258560" y="3618000"/>
            <a:ext cx="3665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PRECONDITIONS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484280" y="5632560"/>
            <a:ext cx="6337080" cy="685800"/>
            <a:chOff x="1484280" y="5632560"/>
            <a:chExt cx="6337080" cy="685800"/>
          </a:xfrm>
        </p:grpSpPr>
        <p:pic>
          <p:nvPicPr>
            <p:cNvPr id="575" name="" descr=""/>
            <p:cNvPicPr/>
            <p:nvPr/>
          </p:nvPicPr>
          <p:blipFill>
            <a:blip r:embed="rId4"/>
            <a:stretch/>
          </p:blipFill>
          <p:spPr>
            <a:xfrm>
              <a:off x="5186520" y="5698800"/>
              <a:ext cx="2634840" cy="26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6" name=""/>
            <p:cNvGrpSpPr/>
            <p:nvPr/>
          </p:nvGrpSpPr>
          <p:grpSpPr>
            <a:xfrm>
              <a:off x="1484280" y="5632560"/>
              <a:ext cx="3927960" cy="685800"/>
              <a:chOff x="1484280" y="5632560"/>
              <a:chExt cx="3927960" cy="685800"/>
            </a:xfrm>
          </p:grpSpPr>
          <p:sp>
            <p:nvSpPr>
              <p:cNvPr id="577" name=""/>
              <p:cNvSpPr/>
              <p:nvPr/>
            </p:nvSpPr>
            <p:spPr>
              <a:xfrm>
                <a:off x="1679040" y="5716440"/>
                <a:ext cx="353772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</a:t>
                </a: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NOT IN A GRID, 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</a:t>
                </a: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LOC IS VALID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</p:txBody>
          </p:sp>
          <p:pic>
            <p:nvPicPr>
              <p:cNvPr id="57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84280" y="5632560"/>
                <a:ext cx="3927960" cy="685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79" name=""/>
          <p:cNvGrpSpPr/>
          <p:nvPr/>
        </p:nvGrpSpPr>
        <p:grpSpPr>
          <a:xfrm>
            <a:off x="1496880" y="6384960"/>
            <a:ext cx="6332400" cy="999720"/>
            <a:chOff x="1496880" y="6384960"/>
            <a:chExt cx="6332400" cy="999720"/>
          </a:xfrm>
        </p:grpSpPr>
        <p:pic>
          <p:nvPicPr>
            <p:cNvPr id="580" name="" descr=""/>
            <p:cNvPicPr/>
            <p:nvPr/>
          </p:nvPicPr>
          <p:blipFill>
            <a:blip r:embed="rId6"/>
            <a:stretch/>
          </p:blipFill>
          <p:spPr>
            <a:xfrm>
              <a:off x="5196240" y="6384960"/>
              <a:ext cx="2633040" cy="66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1" name=""/>
            <p:cNvGrpSpPr/>
            <p:nvPr/>
          </p:nvGrpSpPr>
          <p:grpSpPr>
            <a:xfrm>
              <a:off x="1496880" y="6749280"/>
              <a:ext cx="3925080" cy="635400"/>
              <a:chOff x="1496880" y="6749280"/>
              <a:chExt cx="3925080" cy="6354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91640" y="6849360"/>
                <a:ext cx="3535200" cy="26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</a:t>
                </a: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ACTOR IN A GRID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</p:txBody>
          </p:sp>
          <p:pic>
            <p:nvPicPr>
              <p:cNvPr id="5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496880" y="6749280"/>
                <a:ext cx="3925080" cy="63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4" name=""/>
          <p:cNvGrpSpPr/>
          <p:nvPr/>
        </p:nvGrpSpPr>
        <p:grpSpPr>
          <a:xfrm>
            <a:off x="1001880" y="4375080"/>
            <a:ext cx="6868440" cy="860400"/>
            <a:chOff x="1001880" y="4375080"/>
            <a:chExt cx="6868440" cy="860400"/>
          </a:xfrm>
        </p:grpSpPr>
        <p:pic>
          <p:nvPicPr>
            <p:cNvPr id="585" name="" descr=""/>
            <p:cNvPicPr/>
            <p:nvPr/>
          </p:nvPicPr>
          <p:blipFill>
            <a:blip r:embed="rId8"/>
            <a:stretch/>
          </p:blipFill>
          <p:spPr>
            <a:xfrm>
              <a:off x="5495400" y="4774320"/>
              <a:ext cx="2374920" cy="43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6" name=""/>
            <p:cNvGrpSpPr/>
            <p:nvPr/>
          </p:nvGrpSpPr>
          <p:grpSpPr>
            <a:xfrm>
              <a:off x="1001880" y="4375080"/>
              <a:ext cx="4431960" cy="860400"/>
              <a:chOff x="1001880" y="4375080"/>
              <a:chExt cx="4431960" cy="860400"/>
            </a:xfrm>
          </p:grpSpPr>
          <p:sp>
            <p:nvSpPr>
              <p:cNvPr id="587" name=""/>
              <p:cNvSpPr/>
              <p:nvPr/>
            </p:nvSpPr>
            <p:spPr>
              <a:xfrm>
                <a:off x="1197360" y="4480200"/>
                <a:ext cx="4039920" cy="47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</a:t>
                </a: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ACTOR IN A GRID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NEWLOC IS VALID IN THAT GRID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</p:txBody>
          </p:sp>
          <p:pic>
            <p:nvPicPr>
              <p:cNvPr id="58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1880" y="4375080"/>
                <a:ext cx="4431960" cy="86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0997280" y="8479440"/>
            <a:ext cx="88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TEST 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01" name=""/>
          <p:cNvSpPr/>
          <p:nvPr/>
        </p:nvSpPr>
        <p:spPr>
          <a:xfrm>
            <a:off x="1281240" y="647640"/>
            <a:ext cx="10185120" cy="181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cc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About one fourth of the AP exam will be on Gridworld (5 to 10 multiple-choice questions, one free response question)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02" name=""/>
          <p:cNvSpPr/>
          <p:nvPr/>
        </p:nvSpPr>
        <p:spPr>
          <a:xfrm>
            <a:off x="1079640" y="2838600"/>
            <a:ext cx="110995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You must be familiar with the Bug, BoxBug, Critter, and ChameleonCritter classes 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(including their implementation)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03" name=""/>
          <p:cNvSpPr/>
          <p:nvPr/>
        </p:nvSpPr>
        <p:spPr>
          <a:xfrm>
            <a:off x="952560" y="4952880"/>
            <a:ext cx="11099880" cy="124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cc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Know the documentation for location, Actor, Rock and Flower classes, as well as the Grid interface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6394320"/>
            <a:ext cx="11925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You’ll have the Quick Reference: containimg a list of methods for these classes and the source code for Bug,BoxBug, Critter and ChameleonCritter classes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5130720" y="4546440"/>
            <a:ext cx="5105520" cy="3365640"/>
          </a:xfrm>
          <a:prstGeom prst="rect">
            <a:avLst/>
          </a:prstGeom>
          <a:ln w="0">
            <a:noFill/>
          </a:ln>
          <a:effectLst>
            <a:outerShdw dist="76226" dir="3653569" blurRad="0" rotWithShape="0">
              <a:srgbClr val="000000">
                <a:alpha val="75000"/>
              </a:srgbClr>
            </a:outerShdw>
          </a:effectLst>
        </p:spPr>
      </p:pic>
      <p:sp>
        <p:nvSpPr>
          <p:cNvPr id="590" name=""/>
          <p:cNvSpPr/>
          <p:nvPr/>
        </p:nvSpPr>
        <p:spPr>
          <a:xfrm>
            <a:off x="10219680" y="8479440"/>
            <a:ext cx="1699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BUG- C1-2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952560" y="4000680"/>
            <a:ext cx="3924360" cy="4775040"/>
          </a:xfrm>
          <a:prstGeom prst="rect">
            <a:avLst/>
          </a:prstGeom>
          <a:ln w="0">
            <a:noFill/>
          </a:ln>
          <a:effectLst>
            <a:outerShdw dist="76226" dir="3653569" blurRad="0" rotWithShape="0">
              <a:srgbClr val="000000">
                <a:alpha val="75000"/>
              </a:srgbClr>
            </a:outerShdw>
          </a:effectLst>
        </p:spPr>
      </p:pic>
      <p:grpSp>
        <p:nvGrpSpPr>
          <p:cNvPr id="592" name=""/>
          <p:cNvGrpSpPr/>
          <p:nvPr/>
        </p:nvGrpSpPr>
        <p:grpSpPr>
          <a:xfrm>
            <a:off x="6718320" y="4591080"/>
            <a:ext cx="5560560" cy="2758680"/>
            <a:chOff x="6718320" y="4591080"/>
            <a:chExt cx="5560560" cy="2758680"/>
          </a:xfrm>
        </p:grpSpPr>
        <p:pic>
          <p:nvPicPr>
            <p:cNvPr id="593" name="" descr=""/>
            <p:cNvPicPr/>
            <p:nvPr/>
          </p:nvPicPr>
          <p:blipFill>
            <a:blip r:embed="rId4"/>
            <a:stretch/>
          </p:blipFill>
          <p:spPr>
            <a:xfrm>
              <a:off x="6718320" y="5091840"/>
              <a:ext cx="2344680" cy="4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5"/>
            <a:stretch/>
          </p:blipFill>
          <p:spPr>
            <a:xfrm>
              <a:off x="6970320" y="5427360"/>
              <a:ext cx="2830680" cy="57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6"/>
            <a:stretch/>
          </p:blipFill>
          <p:spPr>
            <a:xfrm>
              <a:off x="6763680" y="5405040"/>
              <a:ext cx="314496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" descr=""/>
            <p:cNvPicPr/>
            <p:nvPr/>
          </p:nvPicPr>
          <p:blipFill>
            <a:blip r:embed="rId7"/>
            <a:stretch/>
          </p:blipFill>
          <p:spPr>
            <a:xfrm>
              <a:off x="6940080" y="5410800"/>
              <a:ext cx="3048840" cy="193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7" name=""/>
            <p:cNvGrpSpPr/>
            <p:nvPr/>
          </p:nvGrpSpPr>
          <p:grpSpPr>
            <a:xfrm>
              <a:off x="8367480" y="4591080"/>
              <a:ext cx="3911400" cy="1229400"/>
              <a:chOff x="8367480" y="4591080"/>
              <a:chExt cx="3911400" cy="1229400"/>
            </a:xfrm>
          </p:grpSpPr>
          <p:sp>
            <p:nvSpPr>
              <p:cNvPr id="598" name=""/>
              <p:cNvSpPr/>
              <p:nvPr/>
            </p:nvSpPr>
            <p:spPr>
              <a:xfrm>
                <a:off x="8561520" y="4732560"/>
                <a:ext cx="352296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</a:t>
                </a: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override </a:t>
                </a:r>
                <a:r>
                  <a:rPr b="1" lang="en-US" sz="1800" spc="-1" strike="noStrike">
                    <a:solidFill>
                      <a:srgbClr val="a90910"/>
                    </a:solidFill>
                    <a:latin typeface="Courier New"/>
                    <a:ea typeface="Courier New"/>
                  </a:rPr>
                  <a:t>act() </a:t>
                </a: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ok for bug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</a:t>
                </a:r>
                <a:r>
                  <a:rPr b="1" lang="en-US" sz="1800" spc="-1" strike="noStrike">
                    <a:solidFill>
                      <a:srgbClr val="a90910"/>
                    </a:solidFill>
                    <a:latin typeface="Courier New"/>
                    <a:ea typeface="Courier New"/>
                  </a:rPr>
                  <a:t>super.act()</a:t>
                </a: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for default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</p:txBody>
          </p:sp>
          <p:pic>
            <p:nvPicPr>
              <p:cNvPr id="5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367480" y="4591080"/>
                <a:ext cx="3911400" cy="1229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00" name="" descr=""/>
          <p:cNvPicPr/>
          <p:nvPr/>
        </p:nvPicPr>
        <p:blipFill>
          <a:blip r:embed="rId9"/>
          <a:stretch/>
        </p:blipFill>
        <p:spPr>
          <a:xfrm>
            <a:off x="901800" y="533520"/>
            <a:ext cx="11188440" cy="3251160"/>
          </a:xfrm>
          <a:prstGeom prst="rect">
            <a:avLst/>
          </a:prstGeom>
          <a:ln w="0">
            <a:noFill/>
          </a:ln>
          <a:effectLst>
            <a:outerShdw dist="76294" dir="6783395" blurRad="0" rotWithShape="0">
              <a:srgbClr val="000000">
                <a:alpha val="75000"/>
              </a:srgbClr>
            </a:outerShdw>
          </a:effectLst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8793720" y="8479440"/>
            <a:ext cx="2946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BUG SUBCLASSE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02" name=""/>
          <p:cNvSpPr/>
          <p:nvPr/>
        </p:nvSpPr>
        <p:spPr>
          <a:xfrm>
            <a:off x="1270080" y="641520"/>
            <a:ext cx="106552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433e"/>
                </a:solidFill>
                <a:latin typeface="Times New Roman Bold"/>
                <a:ea typeface="Times New Roman Bold"/>
              </a:rPr>
              <a:t>When adding or removing actors, do </a:t>
            </a:r>
            <a:r>
              <a:rPr b="0" lang="en-US" sz="2000" spc="-1" strike="noStrike">
                <a:solidFill>
                  <a:srgbClr val="49433e"/>
                </a:solidFill>
                <a:latin typeface="Times New Roman Bold Italic"/>
                <a:ea typeface="Times New Roman Bold Italic"/>
              </a:rPr>
              <a:t>not </a:t>
            </a:r>
            <a:r>
              <a:rPr b="0" lang="en-US" sz="2000" spc="-1" strike="noStrike">
                <a:solidFill>
                  <a:srgbClr val="49433e"/>
                </a:solidFill>
                <a:latin typeface="Times New Roman Bold"/>
                <a:ea typeface="Times New Roman Bold"/>
              </a:rPr>
              <a:t>use the </a:t>
            </a:r>
            <a:r>
              <a:rPr b="1" lang="en-US" sz="2000" spc="-1" strike="noStrike">
                <a:solidFill>
                  <a:srgbClr val="49433e"/>
                </a:solidFill>
                <a:latin typeface="Courier New"/>
                <a:ea typeface="Courier New"/>
              </a:rPr>
              <a:t>put </a:t>
            </a:r>
            <a:r>
              <a:rPr b="0" lang="en-US" sz="2000" spc="-1" strike="noStrike">
                <a:solidFill>
                  <a:srgbClr val="49433e"/>
                </a:solidFill>
                <a:latin typeface="Times New Roman Bold"/>
                <a:ea typeface="Times New Roman Bold"/>
              </a:rPr>
              <a:t>and </a:t>
            </a:r>
            <a:r>
              <a:rPr b="1" lang="en-US" sz="2000" spc="-1" strike="noStrike">
                <a:solidFill>
                  <a:srgbClr val="49433e"/>
                </a:solidFill>
                <a:latin typeface="Courier New"/>
                <a:ea typeface="Courier New"/>
              </a:rPr>
              <a:t>remove </a:t>
            </a:r>
            <a:r>
              <a:rPr b="0" lang="en-US" sz="2000" spc="-1" strike="noStrike">
                <a:solidFill>
                  <a:srgbClr val="49433e"/>
                </a:solidFill>
                <a:latin typeface="Times New Roman Bold"/>
                <a:ea typeface="Times New Roman Bold"/>
              </a:rPr>
              <a:t>methods of the </a:t>
            </a:r>
            <a:r>
              <a:rPr b="1" lang="en-US" sz="2000" spc="-1" strike="noStrike">
                <a:solidFill>
                  <a:srgbClr val="49433e"/>
                </a:solidFill>
                <a:latin typeface="Courier New"/>
                <a:ea typeface="Courier New"/>
              </a:rPr>
              <a:t>Grid </a:t>
            </a:r>
            <a:r>
              <a:rPr b="0" lang="en-US" sz="2000" spc="-1" strike="noStrike">
                <a:solidFill>
                  <a:srgbClr val="49433e"/>
                </a:solidFill>
                <a:latin typeface="Times New Roman Bold"/>
                <a:ea typeface="Times New Roman Bold"/>
              </a:rPr>
              <a:t>interface. Those methods do not update the </a:t>
            </a:r>
            <a:r>
              <a:rPr b="1" lang="en-US" sz="2000" spc="-1" strike="noStrike">
                <a:solidFill>
                  <a:srgbClr val="49433e"/>
                </a:solidFill>
                <a:latin typeface="Courier New"/>
                <a:ea typeface="Courier New"/>
              </a:rPr>
              <a:t>location </a:t>
            </a:r>
            <a:r>
              <a:rPr b="0" lang="en-US" sz="2000" spc="-1" strike="noStrike">
                <a:solidFill>
                  <a:srgbClr val="49433e"/>
                </a:solidFill>
                <a:latin typeface="Times New Roman Bold"/>
                <a:ea typeface="Times New Roman Bold"/>
              </a:rPr>
              <a:t>and </a:t>
            </a:r>
            <a:r>
              <a:rPr b="1" lang="en-US" sz="2000" spc="-1" strike="noStrike">
                <a:solidFill>
                  <a:srgbClr val="49433e"/>
                </a:solidFill>
                <a:latin typeface="Courier New"/>
                <a:ea typeface="Courier New"/>
              </a:rPr>
              <a:t>grid </a:t>
            </a:r>
            <a:r>
              <a:rPr b="0" lang="en-US" sz="2000" spc="-1" strike="noStrike">
                <a:solidFill>
                  <a:srgbClr val="49433e"/>
                </a:solidFill>
                <a:latin typeface="Times New Roman Bold"/>
                <a:ea typeface="Times New Roman Bold"/>
              </a:rPr>
              <a:t>instance variables of the actor. That is a problem since most actors behave incorrectly if they do not know their location. To ensure correct actor behavior, always use the </a:t>
            </a:r>
            <a:r>
              <a:rPr b="1" lang="en-US" sz="2000" spc="-1" strike="noStrike">
                <a:solidFill>
                  <a:srgbClr val="49433e"/>
                </a:solidFill>
                <a:latin typeface="Courier New"/>
                <a:ea typeface="Courier New"/>
              </a:rPr>
              <a:t>putSelfInGrid </a:t>
            </a:r>
            <a:r>
              <a:rPr b="0" lang="en-US" sz="2000" spc="-1" strike="noStrike">
                <a:solidFill>
                  <a:srgbClr val="49433e"/>
                </a:solidFill>
                <a:latin typeface="Times New Roman Bold"/>
                <a:ea typeface="Times New Roman Bold"/>
              </a:rPr>
              <a:t>and </a:t>
            </a:r>
            <a:r>
              <a:rPr b="1" lang="en-US" sz="2000" spc="-1" strike="noStrike">
                <a:solidFill>
                  <a:srgbClr val="49433e"/>
                </a:solidFill>
                <a:latin typeface="Courier New"/>
                <a:ea typeface="Courier New"/>
              </a:rPr>
              <a:t>removeSelfFromGrid </a:t>
            </a:r>
            <a:r>
              <a:rPr b="0" lang="en-US" sz="2000" spc="-1" strike="noStrike">
                <a:solidFill>
                  <a:srgbClr val="49433e"/>
                </a:solidFill>
                <a:latin typeface="Times New Roman Bold"/>
                <a:ea typeface="Times New Roman Bold"/>
              </a:rPr>
              <a:t>methods of the </a:t>
            </a:r>
            <a:r>
              <a:rPr b="1" lang="en-US" sz="2000" spc="-1" strike="noStrike">
                <a:solidFill>
                  <a:srgbClr val="49433e"/>
                </a:solidFill>
                <a:latin typeface="Courier New"/>
                <a:ea typeface="Courier New"/>
              </a:rPr>
              <a:t>Actor </a:t>
            </a:r>
            <a:r>
              <a:rPr b="0" lang="en-US" sz="2000" spc="-1" strike="noStrike">
                <a:solidFill>
                  <a:srgbClr val="49433e"/>
                </a:solidFill>
                <a:latin typeface="Times New Roman Bold"/>
                <a:ea typeface="Times New Roman Bold"/>
              </a:rPr>
              <a:t>class.</a:t>
            </a:r>
            <a:endParaRPr b="0" lang="en-US" sz="20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03" name=""/>
          <p:cNvSpPr/>
          <p:nvPr/>
        </p:nvSpPr>
        <p:spPr>
          <a:xfrm>
            <a:off x="1920960" y="2792520"/>
            <a:ext cx="5313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To Make Different BUGS: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04" name=""/>
          <p:cNvSpPr/>
          <p:nvPr/>
        </p:nvSpPr>
        <p:spPr>
          <a:xfrm>
            <a:off x="4839120" y="3541680"/>
            <a:ext cx="6005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Override the </a:t>
            </a:r>
            <a:r>
              <a:rPr b="0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act()</a:t>
            </a: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 method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05" name=""/>
          <p:cNvSpPr/>
          <p:nvPr/>
        </p:nvSpPr>
        <p:spPr>
          <a:xfrm>
            <a:off x="1928880" y="4533840"/>
            <a:ext cx="648972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49433e"/>
              </a:buClr>
              <a:buSzPct val="125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9433e"/>
                </a:solidFill>
                <a:latin typeface="Courier New"/>
                <a:ea typeface="Courier New"/>
              </a:rPr>
              <a:t>moveTo(), 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buClr>
                <a:srgbClr val="49433e"/>
              </a:buClr>
              <a:buSzPct val="125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9433e"/>
                </a:solidFill>
                <a:latin typeface="Courier New"/>
                <a:ea typeface="Courier New"/>
              </a:rPr>
              <a:t>setColor() 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buClr>
                <a:srgbClr val="49433e"/>
              </a:buClr>
              <a:buSzPct val="125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9433e"/>
                </a:solidFill>
                <a:latin typeface="Courier New"/>
                <a:ea typeface="Courier New"/>
              </a:rPr>
              <a:t>setDirection() 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buClr>
                <a:srgbClr val="49433e"/>
              </a:buClr>
              <a:buSzPct val="125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9433e"/>
                </a:solidFill>
                <a:latin typeface="Courier New"/>
                <a:ea typeface="Courier New"/>
              </a:rPr>
              <a:t>putSelfInGrid()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buClr>
                <a:srgbClr val="49433e"/>
              </a:buClr>
              <a:buSzPct val="125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9433e"/>
                </a:solidFill>
                <a:latin typeface="Courier New"/>
                <a:ea typeface="Courier New"/>
              </a:rPr>
              <a:t>removeSelfFromGrid()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067520" y="4292640"/>
            <a:ext cx="5468760" cy="3327480"/>
            <a:chOff x="7067520" y="4292640"/>
            <a:chExt cx="5468760" cy="3327480"/>
          </a:xfrm>
        </p:grpSpPr>
        <p:pic>
          <p:nvPicPr>
            <p:cNvPr id="607" name="" descr=""/>
            <p:cNvPicPr/>
            <p:nvPr/>
          </p:nvPicPr>
          <p:blipFill>
            <a:blip r:embed="rId2"/>
            <a:stretch/>
          </p:blipFill>
          <p:spPr>
            <a:xfrm>
              <a:off x="8292600" y="4292640"/>
              <a:ext cx="4243680" cy="33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3"/>
            <a:stretch/>
          </p:blipFill>
          <p:spPr>
            <a:xfrm>
              <a:off x="7067520" y="5894280"/>
              <a:ext cx="1396800" cy="102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508200" y="8479440"/>
            <a:ext cx="8809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Learn the methods so you can make new sub classe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2413080" y="520560"/>
            <a:ext cx="6946920" cy="7442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Gridworld.ppt_media/MushroomBug-2.mov" descr=""/>
          <p:cNvPicPr/>
          <p:nvPr/>
        </p:nvPicPr>
        <p:blipFill>
          <a:blip r:embed="rId2"/>
          <a:stretch/>
        </p:blipFill>
        <p:spPr>
          <a:xfrm>
            <a:off x="2908440" y="622440"/>
            <a:ext cx="6642000" cy="8204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Gridworld.ppt_media/MissileCritter-1.mov" descr=""/>
          <p:cNvPicPr/>
          <p:nvPr/>
        </p:nvPicPr>
        <p:blipFill>
          <a:blip r:embed="rId2"/>
          <a:stretch/>
        </p:blipFill>
        <p:spPr>
          <a:xfrm>
            <a:off x="3162240" y="1397160"/>
            <a:ext cx="6693120" cy="6972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9722520" y="8479440"/>
            <a:ext cx="2192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BOXBUG - C3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152280" y="25560"/>
            <a:ext cx="11188800" cy="3251160"/>
          </a:xfrm>
          <a:prstGeom prst="rect">
            <a:avLst/>
          </a:prstGeom>
          <a:ln w="0">
            <a:noFill/>
          </a:ln>
          <a:effectLst>
            <a:outerShdw dist="76226" dir="3653569" blurRad="0" rotWithShape="0">
              <a:srgbClr val="000000">
                <a:alpha val="75000"/>
              </a:srgbClr>
            </a:outerShdw>
          </a:effectLst>
        </p:spPr>
      </p:pic>
      <p:grpSp>
        <p:nvGrpSpPr>
          <p:cNvPr id="615" name=""/>
          <p:cNvGrpSpPr/>
          <p:nvPr/>
        </p:nvGrpSpPr>
        <p:grpSpPr>
          <a:xfrm>
            <a:off x="620640" y="3479760"/>
            <a:ext cx="9043560" cy="1397160"/>
            <a:chOff x="620640" y="3479760"/>
            <a:chExt cx="9043560" cy="1397160"/>
          </a:xfrm>
        </p:grpSpPr>
        <p:sp>
          <p:nvSpPr>
            <p:cNvPr id="616" name=""/>
            <p:cNvSpPr/>
            <p:nvPr/>
          </p:nvSpPr>
          <p:spPr>
            <a:xfrm>
              <a:off x="620640" y="3479760"/>
              <a:ext cx="5220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Adds two attributes 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  <p:pic>
          <p:nvPicPr>
            <p:cNvPr id="617" name="" descr=""/>
            <p:cNvPicPr/>
            <p:nvPr/>
          </p:nvPicPr>
          <p:blipFill>
            <a:blip r:embed="rId3"/>
            <a:stretch/>
          </p:blipFill>
          <p:spPr>
            <a:xfrm>
              <a:off x="5713920" y="3479760"/>
              <a:ext cx="3950280" cy="1397160"/>
            </a:xfrm>
            <a:prstGeom prst="rect">
              <a:avLst/>
            </a:prstGeom>
            <a:ln w="0">
              <a:noFill/>
            </a:ln>
            <a:effectLst>
              <a:outerShdw dist="76226" dir="3653569" blurRad="0" rotWithShape="0">
                <a:srgbClr val="000000">
                  <a:alpha val="75000"/>
                </a:srgbClr>
              </a:outerShdw>
            </a:effectLst>
          </p:spPr>
        </p:pic>
      </p:grpSp>
      <p:grpSp>
        <p:nvGrpSpPr>
          <p:cNvPr id="618" name=""/>
          <p:cNvGrpSpPr/>
          <p:nvPr/>
        </p:nvGrpSpPr>
        <p:grpSpPr>
          <a:xfrm>
            <a:off x="469800" y="5073480"/>
            <a:ext cx="10985400" cy="3511440"/>
            <a:chOff x="469800" y="5073480"/>
            <a:chExt cx="10985400" cy="3511440"/>
          </a:xfrm>
        </p:grpSpPr>
        <p:sp>
          <p:nvSpPr>
            <p:cNvPr id="619" name=""/>
            <p:cNvSpPr/>
            <p:nvPr/>
          </p:nvSpPr>
          <p:spPr>
            <a:xfrm>
              <a:off x="469800" y="5073480"/>
              <a:ext cx="5219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overwrites one method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4"/>
            <a:stretch/>
          </p:blipFill>
          <p:spPr>
            <a:xfrm>
              <a:off x="5702040" y="5079960"/>
              <a:ext cx="5753160" cy="3504960"/>
            </a:xfrm>
            <a:prstGeom prst="rect">
              <a:avLst/>
            </a:prstGeom>
            <a:ln w="0">
              <a:noFill/>
            </a:ln>
            <a:effectLst>
              <a:outerShdw dist="76226" dir="3653569" blurRad="0" rotWithShape="0">
                <a:srgbClr val="000000">
                  <a:alpha val="75000"/>
                </a:srgbClr>
              </a:outerShdw>
            </a:effectLst>
          </p:spPr>
        </p:pic>
      </p:grp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3365640" y="2857680"/>
            <a:ext cx="6540480" cy="47242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196920" y="423720"/>
            <a:ext cx="8788320" cy="25545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623" name=""/>
          <p:cNvSpPr/>
          <p:nvPr/>
        </p:nvSpPr>
        <p:spPr>
          <a:xfrm>
            <a:off x="9539640" y="8479440"/>
            <a:ext cx="231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CRITTER: C4-5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695160" y="3422520"/>
            <a:ext cx="4444920" cy="965160"/>
            <a:chOff x="695160" y="3422520"/>
            <a:chExt cx="4444920" cy="965160"/>
          </a:xfrm>
        </p:grpSpPr>
        <p:pic>
          <p:nvPicPr>
            <p:cNvPr id="625" name="" descr=""/>
            <p:cNvPicPr/>
            <p:nvPr/>
          </p:nvPicPr>
          <p:blipFill>
            <a:blip r:embed="rId4"/>
            <a:stretch/>
          </p:blipFill>
          <p:spPr>
            <a:xfrm>
              <a:off x="3593160" y="3702960"/>
              <a:ext cx="1546920" cy="313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6" name=""/>
            <p:cNvGrpSpPr/>
            <p:nvPr/>
          </p:nvGrpSpPr>
          <p:grpSpPr>
            <a:xfrm>
              <a:off x="695160" y="3422520"/>
              <a:ext cx="3118320" cy="965160"/>
              <a:chOff x="695160" y="3422520"/>
              <a:chExt cx="3118320" cy="965160"/>
            </a:xfrm>
          </p:grpSpPr>
          <p:sp>
            <p:nvSpPr>
              <p:cNvPr id="627" name=""/>
              <p:cNvSpPr/>
              <p:nvPr/>
            </p:nvSpPr>
            <p:spPr>
              <a:xfrm>
                <a:off x="886680" y="3518640"/>
                <a:ext cx="2739240" cy="61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</a:t>
                </a: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DO NOT TOUCH CRITTER’S </a:t>
                </a:r>
                <a:r>
                  <a:rPr b="1" lang="en-US" sz="1800" spc="-1" strike="noStrike">
                    <a:solidFill>
                      <a:srgbClr val="a90910"/>
                    </a:solidFill>
                    <a:latin typeface="Courier New"/>
                    <a:ea typeface="Courier New"/>
                  </a:rPr>
                  <a:t>act()</a:t>
                </a: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METHOD!!!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</p:txBody>
          </p:sp>
          <p:pic>
            <p:nvPicPr>
              <p:cNvPr id="62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5160" y="3422520"/>
                <a:ext cx="3118320" cy="965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29" name=""/>
          <p:cNvGrpSpPr/>
          <p:nvPr/>
        </p:nvGrpSpPr>
        <p:grpSpPr>
          <a:xfrm>
            <a:off x="6804000" y="1968480"/>
            <a:ext cx="5578560" cy="5167080"/>
            <a:chOff x="6804000" y="1968480"/>
            <a:chExt cx="5578560" cy="5167080"/>
          </a:xfrm>
        </p:grpSpPr>
        <p:pic>
          <p:nvPicPr>
            <p:cNvPr id="630" name="" descr=""/>
            <p:cNvPicPr/>
            <p:nvPr/>
          </p:nvPicPr>
          <p:blipFill>
            <a:blip r:embed="rId6"/>
            <a:stretch/>
          </p:blipFill>
          <p:spPr>
            <a:xfrm>
              <a:off x="6804000" y="2839680"/>
              <a:ext cx="2757960" cy="20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7"/>
            <a:stretch/>
          </p:blipFill>
          <p:spPr>
            <a:xfrm>
              <a:off x="7253280" y="2806200"/>
              <a:ext cx="2345040" cy="25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8"/>
            <a:stretch/>
          </p:blipFill>
          <p:spPr>
            <a:xfrm>
              <a:off x="7388640" y="2835000"/>
              <a:ext cx="2211120" cy="38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9"/>
            <a:stretch/>
          </p:blipFill>
          <p:spPr>
            <a:xfrm>
              <a:off x="8858520" y="2813760"/>
              <a:ext cx="729000" cy="432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4" name=""/>
            <p:cNvGrpSpPr/>
            <p:nvPr/>
          </p:nvGrpSpPr>
          <p:grpSpPr>
            <a:xfrm>
              <a:off x="8761680" y="1968480"/>
              <a:ext cx="3620880" cy="1196280"/>
              <a:chOff x="8761680" y="1968480"/>
              <a:chExt cx="3620880" cy="1196280"/>
            </a:xfrm>
          </p:grpSpPr>
          <p:sp>
            <p:nvSpPr>
              <p:cNvPr id="635" name=""/>
              <p:cNvSpPr/>
              <p:nvPr/>
            </p:nvSpPr>
            <p:spPr>
              <a:xfrm>
                <a:off x="8955720" y="2114640"/>
                <a:ext cx="3231720" cy="659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</a:t>
                </a: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DO NOT CHANGE STATE 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   OF other ACTORs!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</p:txBody>
          </p:sp>
          <p:pic>
            <p:nvPicPr>
              <p:cNvPr id="63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761680" y="1968480"/>
                <a:ext cx="3620880" cy="1196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37" name=""/>
          <p:cNvGrpSpPr/>
          <p:nvPr/>
        </p:nvGrpSpPr>
        <p:grpSpPr>
          <a:xfrm>
            <a:off x="7172280" y="7338960"/>
            <a:ext cx="5286240" cy="1119240"/>
            <a:chOff x="7172280" y="7338960"/>
            <a:chExt cx="5286240" cy="1119240"/>
          </a:xfrm>
        </p:grpSpPr>
        <p:pic>
          <p:nvPicPr>
            <p:cNvPr id="638" name="" descr=""/>
            <p:cNvPicPr/>
            <p:nvPr/>
          </p:nvPicPr>
          <p:blipFill>
            <a:blip r:embed="rId11"/>
            <a:stretch/>
          </p:blipFill>
          <p:spPr>
            <a:xfrm>
              <a:off x="7172280" y="7338960"/>
              <a:ext cx="1284120" cy="52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9" name=""/>
            <p:cNvGrpSpPr/>
            <p:nvPr/>
          </p:nvGrpSpPr>
          <p:grpSpPr>
            <a:xfrm>
              <a:off x="8289720" y="7383600"/>
              <a:ext cx="4168800" cy="1074600"/>
              <a:chOff x="8289720" y="7383600"/>
              <a:chExt cx="4168800" cy="1074600"/>
            </a:xfrm>
          </p:grpSpPr>
          <p:sp>
            <p:nvSpPr>
              <p:cNvPr id="640" name=""/>
              <p:cNvSpPr/>
              <p:nvPr/>
            </p:nvSpPr>
            <p:spPr>
              <a:xfrm>
                <a:off x="8483400" y="7490880"/>
                <a:ext cx="3780720" cy="68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</a:t>
                </a: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RETURN: ELEMENT OF (LOCS)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</a:t>
                </a: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OR CURRENT LOCATION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</a:t>
                </a: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OR NULL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</p:txBody>
          </p:sp>
          <p:pic>
            <p:nvPicPr>
              <p:cNvPr id="64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89720" y="7383600"/>
                <a:ext cx="4168800" cy="107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42" name=""/>
          <p:cNvGrpSpPr/>
          <p:nvPr/>
        </p:nvGrpSpPr>
        <p:grpSpPr>
          <a:xfrm>
            <a:off x="469800" y="5143680"/>
            <a:ext cx="4976640" cy="1244520"/>
            <a:chOff x="469800" y="5143680"/>
            <a:chExt cx="4976640" cy="1244520"/>
          </a:xfrm>
        </p:grpSpPr>
        <p:pic>
          <p:nvPicPr>
            <p:cNvPr id="643" name="" descr=""/>
            <p:cNvPicPr/>
            <p:nvPr/>
          </p:nvPicPr>
          <p:blipFill>
            <a:blip r:embed="rId13"/>
            <a:stretch/>
          </p:blipFill>
          <p:spPr>
            <a:xfrm>
              <a:off x="4385520" y="5663880"/>
              <a:ext cx="1060920" cy="3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4" name=""/>
            <p:cNvGrpSpPr/>
            <p:nvPr/>
          </p:nvGrpSpPr>
          <p:grpSpPr>
            <a:xfrm>
              <a:off x="469800" y="5143680"/>
              <a:ext cx="4401360" cy="1244520"/>
              <a:chOff x="469800" y="5143680"/>
              <a:chExt cx="4401360" cy="1244520"/>
            </a:xfrm>
          </p:grpSpPr>
          <p:sp>
            <p:nvSpPr>
              <p:cNvPr id="645" name=""/>
              <p:cNvSpPr/>
              <p:nvPr/>
            </p:nvSpPr>
            <p:spPr>
              <a:xfrm>
                <a:off x="662400" y="5248440"/>
                <a:ext cx="4015440" cy="85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</a:t>
                </a: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CAN ONLY CHANGE THE STATE OF ACTORS IN OLD/NEW LOCATION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USE </a:t>
                </a:r>
                <a:r>
                  <a:rPr b="1" lang="en-US" sz="1400" spc="-1" strike="noStrike">
                    <a:solidFill>
                      <a:srgbClr val="a90910"/>
                    </a:solidFill>
                    <a:latin typeface="Courier New"/>
                    <a:ea typeface="Courier New"/>
                  </a:rPr>
                  <a:t>moveTo(loc)</a:t>
                </a: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TO UPDATE STATE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 </a:t>
                </a:r>
                <a:r>
                  <a:rPr b="1" lang="en-US" sz="1400" spc="-1" strike="noStrike">
                    <a:solidFill>
                      <a:srgbClr val="a90910"/>
                    </a:solidFill>
                    <a:latin typeface="Courier New"/>
                    <a:ea typeface="Courier New"/>
                  </a:rPr>
                  <a:t>if (loc==null) removeSelfFromGrid()</a:t>
                </a:r>
                <a:endParaRPr b="0" lang="en-US" sz="1400" spc="-1" strike="noStrike">
                  <a:solidFill>
                    <a:srgbClr val="49433e"/>
                  </a:solidFill>
                  <a:latin typeface="Bradley Hand ITC TT-Bold"/>
                </a:endParaRPr>
              </a:p>
            </p:txBody>
          </p:sp>
          <p:pic>
            <p:nvPicPr>
              <p:cNvPr id="64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9800" y="5143680"/>
                <a:ext cx="4401360" cy="1244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47" name=""/>
          <p:cNvGrpSpPr/>
          <p:nvPr/>
        </p:nvGrpSpPr>
        <p:grpSpPr>
          <a:xfrm>
            <a:off x="749160" y="6802560"/>
            <a:ext cx="5626080" cy="1871280"/>
            <a:chOff x="749160" y="6802560"/>
            <a:chExt cx="5626080" cy="1871280"/>
          </a:xfrm>
        </p:grpSpPr>
        <p:pic>
          <p:nvPicPr>
            <p:cNvPr id="648" name="" descr=""/>
            <p:cNvPicPr/>
            <p:nvPr/>
          </p:nvPicPr>
          <p:blipFill>
            <a:blip r:embed="rId15"/>
            <a:stretch/>
          </p:blipFill>
          <p:spPr>
            <a:xfrm>
              <a:off x="2722320" y="6802560"/>
              <a:ext cx="2640960" cy="81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9" name=""/>
            <p:cNvGrpSpPr/>
            <p:nvPr/>
          </p:nvGrpSpPr>
          <p:grpSpPr>
            <a:xfrm>
              <a:off x="749160" y="7474320"/>
              <a:ext cx="5626080" cy="1199520"/>
              <a:chOff x="749160" y="7474320"/>
              <a:chExt cx="5626080" cy="1199520"/>
            </a:xfrm>
          </p:grpSpPr>
          <p:sp>
            <p:nvSpPr>
              <p:cNvPr id="650" name=""/>
              <p:cNvSpPr/>
              <p:nvPr/>
            </p:nvSpPr>
            <p:spPr>
              <a:xfrm>
                <a:off x="938520" y="7593840"/>
                <a:ext cx="5247360" cy="75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 </a:t>
                </a: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OK CHANGE STATE OF THIS CRITTER ONLY!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ACTORS PARAM UNCHANGED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  <a:p>
                <a:pPr>
                  <a:lnSpc>
                    <a:spcPct val="100000"/>
                  </a:lnSpc>
                  <a:buClr>
                    <a:srgbClr val="a90910"/>
                  </a:buClr>
                  <a:buFont typeface="Bradley Hand ITC TT-Bold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90910"/>
                    </a:solidFill>
                    <a:latin typeface="Bradley Hand ITC TT-Bold"/>
                    <a:ea typeface="Bradley Hand ITC TT-Bold"/>
                  </a:rPr>
                  <a:t>LOC OF THIS CRITTER UNCHANGED</a:t>
                </a:r>
                <a:endParaRPr b="0" lang="en-US" sz="1800" spc="-1" strike="noStrike">
                  <a:solidFill>
                    <a:srgbClr val="49433e"/>
                  </a:solidFill>
                  <a:latin typeface="Bradley Hand ITC TT-Bold"/>
                </a:endParaRPr>
              </a:p>
            </p:txBody>
          </p:sp>
          <p:pic>
            <p:nvPicPr>
              <p:cNvPr id="6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49160" y="7474320"/>
                <a:ext cx="5626080" cy="1199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7282080" y="8479440"/>
            <a:ext cx="4571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CRITTER POSTCONDITION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406440" y="1473120"/>
            <a:ext cx="12182400" cy="5499360"/>
          </a:xfrm>
          <a:prstGeom prst="rect">
            <a:avLst/>
          </a:prstGeom>
          <a:ln w="0">
            <a:noFill/>
          </a:ln>
          <a:effectLst>
            <a:outerShdw dist="76226" dir="3653569" blurRad="0" rotWithShape="0">
              <a:srgbClr val="000000">
                <a:alpha val="75000"/>
              </a:srgbClr>
            </a:outerShdw>
          </a:effectLst>
        </p:spPr>
      </p:pic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8277840" y="8479440"/>
            <a:ext cx="354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CHAMELEONCRITTER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11188800" cy="3251160"/>
          </a:xfrm>
          <a:prstGeom prst="rect">
            <a:avLst/>
          </a:prstGeom>
          <a:ln w="0">
            <a:noFill/>
          </a:ln>
          <a:effectLst>
            <a:outerShdw dist="76226" dir="3653569" blurRad="0" rotWithShape="0">
              <a:srgbClr val="000000">
                <a:alpha val="75000"/>
              </a:srgbClr>
            </a:outerShdw>
          </a:effectLst>
        </p:spPr>
      </p:pic>
      <p:pic>
        <p:nvPicPr>
          <p:cNvPr id="656" name="" descr=""/>
          <p:cNvPicPr/>
          <p:nvPr/>
        </p:nvPicPr>
        <p:blipFill>
          <a:blip r:embed="rId3"/>
          <a:stretch/>
        </p:blipFill>
        <p:spPr>
          <a:xfrm>
            <a:off x="3594240" y="3479760"/>
            <a:ext cx="8305560" cy="4940280"/>
          </a:xfrm>
          <a:prstGeom prst="rect">
            <a:avLst/>
          </a:prstGeom>
          <a:ln w="0">
            <a:noFill/>
          </a:ln>
          <a:effectLst>
            <a:outerShdw dist="76226" dir="3653569" blurRad="0" rotWithShape="0">
              <a:srgbClr val="000000">
                <a:alpha val="75000"/>
              </a:srgbClr>
            </a:outerShdw>
          </a:effectLst>
        </p:spPr>
      </p:pic>
      <p:sp>
        <p:nvSpPr>
          <p:cNvPr id="657" name=""/>
          <p:cNvSpPr/>
          <p:nvPr/>
        </p:nvSpPr>
        <p:spPr>
          <a:xfrm>
            <a:off x="900000" y="3848040"/>
            <a:ext cx="21463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Overrides two methods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8695440" y="8479440"/>
            <a:ext cx="30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GRID&lt;E&gt;- PAGE B2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60240" y="444600"/>
            <a:ext cx="8636040" cy="8026200"/>
          </a:xfrm>
          <a:prstGeom prst="rect">
            <a:avLst/>
          </a:prstGeom>
          <a:ln w="0">
            <a:noFill/>
          </a:ln>
          <a:effectLst>
            <a:outerShdw dist="76226" dir="3653569" blurRad="0" rotWithShape="0">
              <a:srgbClr val="000000">
                <a:alpha val="75000"/>
              </a:srgbClr>
            </a:outerShdw>
          </a:effectLst>
        </p:spPr>
      </p:pic>
      <p:pic>
        <p:nvPicPr>
          <p:cNvPr id="660" name="" descr=""/>
          <p:cNvPicPr/>
          <p:nvPr/>
        </p:nvPicPr>
        <p:blipFill>
          <a:blip r:embed="rId3"/>
          <a:stretch/>
        </p:blipFill>
        <p:spPr>
          <a:xfrm>
            <a:off x="6921360" y="165240"/>
            <a:ext cx="5892840" cy="2616120"/>
          </a:xfrm>
          <a:prstGeom prst="rect">
            <a:avLst/>
          </a:prstGeom>
          <a:ln w="0">
            <a:noFill/>
          </a:ln>
          <a:effectLst>
            <a:outerShdw dist="76226" dir="3653569" blurRad="0" rotWithShape="0">
              <a:srgbClr val="000000">
                <a:alpha val="75000"/>
              </a:srgbClr>
            </a:outerShdw>
          </a:effectLst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What is Testable?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41480" y="2235240"/>
            <a:ext cx="11188800" cy="699768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rmAutofit fontScale="40000"/>
          </a:bodyPr>
          <a:p>
            <a:pPr marL="228600" indent="-22860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e implementation of the class is testable.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-22860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You need to know all the members of the class and its functionality.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-22860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You need to know how to call any method of this class from a client program segment.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-22860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You understand the implementation code of any methods of the class.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-22860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You are expected to alter the program code of the class to alter its behavior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-22860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You need to know all the members of the class and its functionality (know the API!)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-22860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gdgff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-22860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e Application Program Interface (API) of the class is testable.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-22860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You need to know all the members of the class and its functionality.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-22860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You need to know how to call any method of this class from a client program segment.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need to know all the members of the class and its functionality.</a:t>
            </a:r>
            <a:endParaRPr b="0" lang="en-US" sz="12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need to know how to call any method of this class from a client program segment.</a:t>
            </a:r>
            <a:endParaRPr b="0" lang="en-US" sz="12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understand the implementation code of any methods of the class.</a:t>
            </a:r>
            <a:endParaRPr b="0" lang="en-US" sz="12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are expected to alter the program code of the class to alter its behavior</a:t>
            </a:r>
            <a:endParaRPr b="0" lang="en-US" sz="12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pplication Program Interface (API) of the class is testable.</a:t>
            </a:r>
            <a:endParaRPr b="0" lang="en-US" sz="12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need to know all the members of the class and its functionality.</a:t>
            </a:r>
            <a:endParaRPr b="0" lang="en-US" sz="12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need to know how to call any method of this class from a client program segment.</a:t>
            </a:r>
            <a:endParaRPr b="0" lang="en-US" sz="1200" spc="-1" strike="noStrike">
              <a:solidFill>
                <a:srgbClr val="49433e"/>
              </a:solidFill>
              <a:latin typeface="Bradley Hand ITC TT-Bold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0217880" y="8479440"/>
            <a:ext cx="171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GRID: PU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62" name=""/>
          <p:cNvSpPr/>
          <p:nvPr/>
        </p:nvSpPr>
        <p:spPr>
          <a:xfrm>
            <a:off x="2779560" y="5124600"/>
            <a:ext cx="80139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radley Hand ITC TT-Bold"/>
                <a:ea typeface="Bradley Hand ITC TT-Bold"/>
              </a:rPr>
              <a:t>IllegalArgumentException</a:t>
            </a: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 if the location is invalid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63" name=""/>
          <p:cNvSpPr/>
          <p:nvPr/>
        </p:nvSpPr>
        <p:spPr>
          <a:xfrm>
            <a:off x="3492360" y="6864480"/>
            <a:ext cx="8445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radley Hand ITC TT-Bold"/>
                <a:ea typeface="Bradley Hand ITC TT-Bold"/>
              </a:rPr>
              <a:t>NullPointerException</a:t>
            </a: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 if the object is null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1066680" y="876240"/>
            <a:ext cx="7848720" cy="2984400"/>
          </a:xfrm>
          <a:prstGeom prst="rect">
            <a:avLst/>
          </a:prstGeom>
          <a:ln w="0">
            <a:noFill/>
          </a:ln>
          <a:effectLst>
            <a:outerShdw dist="76226" dir="3653569" blurRad="0" rotWithShape="0">
              <a:srgbClr val="000000">
                <a:alpha val="75000"/>
              </a:srgbClr>
            </a:outerShdw>
          </a:effectLst>
        </p:spPr>
      </p:pic>
      <p:sp>
        <p:nvSpPr>
          <p:cNvPr id="665" name=""/>
          <p:cNvSpPr/>
          <p:nvPr/>
        </p:nvSpPr>
        <p:spPr>
          <a:xfrm>
            <a:off x="1681200" y="4405320"/>
            <a:ext cx="203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THROWS: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71400" y="3948120"/>
            <a:ext cx="10147680" cy="2452320"/>
            <a:chOff x="671400" y="3948120"/>
            <a:chExt cx="10147680" cy="2452320"/>
          </a:xfrm>
        </p:grpSpPr>
        <p:grpSp>
          <p:nvGrpSpPr>
            <p:cNvPr id="667" name=""/>
            <p:cNvGrpSpPr/>
            <p:nvPr/>
          </p:nvGrpSpPr>
          <p:grpSpPr>
            <a:xfrm>
              <a:off x="1560240" y="4457520"/>
              <a:ext cx="7048440" cy="1942920"/>
              <a:chOff x="1560240" y="4457520"/>
              <a:chExt cx="7048440" cy="1942920"/>
            </a:xfrm>
          </p:grpSpPr>
          <p:pic>
            <p:nvPicPr>
              <p:cNvPr id="6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63280" y="4588200"/>
                <a:ext cx="6645600" cy="146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0240" y="4457520"/>
                <a:ext cx="7048440" cy="194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0" name=""/>
            <p:cNvSpPr/>
            <p:nvPr/>
          </p:nvSpPr>
          <p:spPr>
            <a:xfrm>
              <a:off x="671400" y="3948120"/>
              <a:ext cx="101476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But usually from actors don’t call </a:t>
              </a:r>
              <a:r>
                <a:rPr b="0" lang="en-US" sz="36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put</a:t>
              </a: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 ...instead: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562040" y="6680160"/>
            <a:ext cx="8915400" cy="2616120"/>
            <a:chOff x="1562040" y="6680160"/>
            <a:chExt cx="8915400" cy="2616120"/>
          </a:xfrm>
        </p:grpSpPr>
        <p:pic>
          <p:nvPicPr>
            <p:cNvPr id="672" name="" descr=""/>
            <p:cNvPicPr/>
            <p:nvPr/>
          </p:nvPicPr>
          <p:blipFill>
            <a:blip r:embed="rId5"/>
            <a:stretch/>
          </p:blipFill>
          <p:spPr>
            <a:xfrm>
              <a:off x="1765080" y="6832440"/>
              <a:ext cx="850932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" descr=""/>
            <p:cNvPicPr/>
            <p:nvPr/>
          </p:nvPicPr>
          <p:blipFill>
            <a:blip r:embed="rId6"/>
            <a:stretch/>
          </p:blipFill>
          <p:spPr>
            <a:xfrm>
              <a:off x="1562040" y="6680160"/>
              <a:ext cx="8915400" cy="2616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5582880" y="8479440"/>
            <a:ext cx="601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INTERFACE AND ABSTRACT CLASSE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787320" y="417600"/>
            <a:ext cx="9626760" cy="2798640"/>
          </a:xfrm>
          <a:prstGeom prst="rect">
            <a:avLst/>
          </a:prstGeom>
          <a:ln w="0">
            <a:noFill/>
          </a:ln>
          <a:effectLst>
            <a:outerShdw dist="76226" dir="3653569" blurRad="0" rotWithShape="0">
              <a:srgbClr val="000000">
                <a:alpha val="75000"/>
              </a:srgbClr>
            </a:outerShdw>
          </a:effectLst>
        </p:spPr>
      </p:pic>
      <p:pic>
        <p:nvPicPr>
          <p:cNvPr id="676" name="" descr=""/>
          <p:cNvPicPr/>
          <p:nvPr/>
        </p:nvPicPr>
        <p:blipFill>
          <a:blip r:embed="rId3"/>
          <a:stretch/>
        </p:blipFill>
        <p:spPr>
          <a:xfrm>
            <a:off x="3618000" y="3289320"/>
            <a:ext cx="8367480" cy="5054760"/>
          </a:xfrm>
          <a:prstGeom prst="rect">
            <a:avLst/>
          </a:prstGeom>
          <a:ln w="0">
            <a:noFill/>
          </a:ln>
          <a:effectLst>
            <a:outerShdw dist="76226" dir="3653569" blurRad="0" rotWithShape="0">
              <a:srgbClr val="000000">
                <a:alpha val="75000"/>
              </a:srgbClr>
            </a:outerShdw>
          </a:effectLst>
        </p:spPr>
      </p:pic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10263960" y="8479440"/>
            <a:ext cx="1576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CRITTER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78" name=""/>
          <p:cNvSpPr/>
          <p:nvPr/>
        </p:nvSpPr>
        <p:spPr>
          <a:xfrm>
            <a:off x="1138320" y="1370160"/>
            <a:ext cx="6726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TO MAKE DIFFERENT </a:t>
            </a:r>
            <a:r>
              <a:rPr b="0" lang="en-US" sz="3600" spc="-1" strike="noStrike">
                <a:solidFill>
                  <a:srgbClr val="ff00ff"/>
                </a:solidFill>
                <a:latin typeface="Bradley Hand ITC TT-Bold"/>
                <a:ea typeface="Bradley Hand ITC TT-Bold"/>
              </a:rPr>
              <a:t>CRITTERS</a:t>
            </a: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: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79" name=""/>
          <p:cNvSpPr/>
          <p:nvPr/>
        </p:nvSpPr>
        <p:spPr>
          <a:xfrm>
            <a:off x="2301480" y="2868840"/>
            <a:ext cx="8385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radley Hand ITC TT-Bold"/>
                <a:ea typeface="Bradley Hand ITC TT-Bold"/>
              </a:rPr>
              <a:t>NEVER</a:t>
            </a: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 OVERRIDE THE </a:t>
            </a:r>
            <a:r>
              <a:rPr b="0" lang="en-US" sz="3600" spc="-1" strike="noStrike">
                <a:solidFill>
                  <a:srgbClr val="49433e"/>
                </a:solidFill>
                <a:latin typeface="Courier New"/>
                <a:ea typeface="Courier New"/>
              </a:rPr>
              <a:t>act()</a:t>
            </a: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 METHOD!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80" name=""/>
          <p:cNvSpPr/>
          <p:nvPr/>
        </p:nvSpPr>
        <p:spPr>
          <a:xfrm>
            <a:off x="1384200" y="4730760"/>
            <a:ext cx="10528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9433e"/>
                </a:solidFill>
                <a:latin typeface="Courier New"/>
                <a:ea typeface="Courier New"/>
              </a:rPr>
              <a:t>ArrayList&lt;Actor&gt; </a:t>
            </a:r>
            <a:r>
              <a:rPr b="0" lang="en-US" sz="2500" spc="-1" strike="noStrike">
                <a:solidFill>
                  <a:srgbClr val="ff0000"/>
                </a:solidFill>
                <a:latin typeface="Courier New"/>
                <a:ea typeface="Courier New"/>
              </a:rPr>
              <a:t>getActors()</a:t>
            </a:r>
            <a:r>
              <a:rPr b="0" lang="en-US" sz="2500" spc="-1" strike="noStrike">
                <a:solidFill>
                  <a:srgbClr val="49433e"/>
                </a:solidFill>
                <a:latin typeface="Courier New"/>
                <a:ea typeface="Courier New"/>
              </a:rPr>
              <a:t> </a:t>
            </a:r>
            <a:endParaRPr b="0" lang="en-US" sz="25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9433e"/>
                </a:solidFill>
                <a:latin typeface="Courier New"/>
                <a:ea typeface="Courier New"/>
              </a:rPr>
              <a:t>void </a:t>
            </a:r>
            <a:r>
              <a:rPr b="0" lang="en-US" sz="2500" spc="-1" strike="noStrike">
                <a:solidFill>
                  <a:srgbClr val="ff0000"/>
                </a:solidFill>
                <a:latin typeface="Courier New"/>
                <a:ea typeface="Courier New"/>
              </a:rPr>
              <a:t>processActors</a:t>
            </a:r>
            <a:r>
              <a:rPr b="0" lang="en-US" sz="2500" spc="-1" strike="noStrike">
                <a:solidFill>
                  <a:srgbClr val="49433e"/>
                </a:solidFill>
                <a:latin typeface="Courier New"/>
                <a:ea typeface="Courier New"/>
              </a:rPr>
              <a:t>(ArrayList&lt;Actor&gt; actors) </a:t>
            </a:r>
            <a:endParaRPr b="0" lang="en-US" sz="25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9433e"/>
                </a:solidFill>
                <a:latin typeface="Courier New"/>
                <a:ea typeface="Courier New"/>
              </a:rPr>
              <a:t>ArrayList&lt;Location&gt; </a:t>
            </a:r>
            <a:r>
              <a:rPr b="0" lang="en-US" sz="2500" spc="-1" strike="noStrike">
                <a:solidFill>
                  <a:srgbClr val="ff0000"/>
                </a:solidFill>
                <a:latin typeface="Courier New"/>
                <a:ea typeface="Courier New"/>
              </a:rPr>
              <a:t>getMoveLocations()</a:t>
            </a:r>
            <a:r>
              <a:rPr b="0" lang="en-US" sz="2500" spc="-1" strike="noStrike">
                <a:solidFill>
                  <a:srgbClr val="49433e"/>
                </a:solidFill>
                <a:latin typeface="Courier New"/>
                <a:ea typeface="Courier New"/>
              </a:rPr>
              <a:t> </a:t>
            </a:r>
            <a:endParaRPr b="0" lang="en-US" sz="25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9433e"/>
                </a:solidFill>
                <a:latin typeface="Courier New"/>
                <a:ea typeface="Courier New"/>
              </a:rPr>
              <a:t>Location </a:t>
            </a:r>
            <a:r>
              <a:rPr b="0" lang="en-US" sz="2500" spc="-1" strike="noStrike">
                <a:solidFill>
                  <a:srgbClr val="ff0000"/>
                </a:solidFill>
                <a:latin typeface="Courier New"/>
                <a:ea typeface="Courier New"/>
              </a:rPr>
              <a:t>selectMoveLocation</a:t>
            </a:r>
            <a:r>
              <a:rPr b="0" lang="en-US" sz="2500" spc="-1" strike="noStrike">
                <a:solidFill>
                  <a:srgbClr val="49433e"/>
                </a:solidFill>
                <a:latin typeface="Courier New"/>
                <a:ea typeface="Courier New"/>
              </a:rPr>
              <a:t>(ArrayList&lt;Location&gt; locs) </a:t>
            </a:r>
            <a:endParaRPr b="0" lang="en-US" sz="25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9433e"/>
                </a:solidFill>
                <a:latin typeface="Courier New"/>
                <a:ea typeface="Courier New"/>
              </a:rPr>
              <a:t>void </a:t>
            </a:r>
            <a:r>
              <a:rPr b="0" lang="en-US" sz="2500" spc="-1" strike="noStrike">
                <a:solidFill>
                  <a:srgbClr val="ff0000"/>
                </a:solidFill>
                <a:latin typeface="Courier New"/>
                <a:ea typeface="Courier New"/>
              </a:rPr>
              <a:t>makeMove</a:t>
            </a:r>
            <a:r>
              <a:rPr b="0" lang="en-US" sz="2500" spc="-1" strike="noStrike">
                <a:solidFill>
                  <a:srgbClr val="49433e"/>
                </a:solidFill>
                <a:latin typeface="Courier New"/>
                <a:ea typeface="Courier New"/>
              </a:rPr>
              <a:t>(Location loc)</a:t>
            </a:r>
            <a:endParaRPr b="0" lang="en-US" sz="25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5756760" y="8479800"/>
            <a:ext cx="6139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Courier New"/>
                <a:ea typeface="Courier New"/>
              </a:rPr>
              <a:t>getActors/processActors</a:t>
            </a: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 NOTE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977760"/>
            <a:ext cx="9752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Usually you need info from the grid: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83" name=""/>
          <p:cNvSpPr/>
          <p:nvPr/>
        </p:nvSpPr>
        <p:spPr>
          <a:xfrm>
            <a:off x="2779560" y="1758960"/>
            <a:ext cx="97538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433e"/>
                </a:solidFill>
                <a:latin typeface="Courier New"/>
                <a:ea typeface="Courier New"/>
              </a:rPr>
              <a:t>Grid gr = anActor.getGrid();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433e"/>
                </a:solidFill>
                <a:latin typeface="Courier New"/>
                <a:ea typeface="Courier New"/>
              </a:rPr>
              <a:t>Grid gr = this.getGrid();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84" name=""/>
          <p:cNvSpPr/>
          <p:nvPr/>
        </p:nvSpPr>
        <p:spPr>
          <a:xfrm>
            <a:off x="1255680" y="3219480"/>
            <a:ext cx="97534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getting occupied locations returns </a:t>
            </a:r>
            <a:r>
              <a:rPr b="0" lang="en-US" sz="3600" spc="-1" strike="noStrike">
                <a:solidFill>
                  <a:srgbClr val="ff00ff"/>
                </a:solidFill>
                <a:latin typeface="Courier New"/>
                <a:ea typeface="Courier New"/>
              </a:rPr>
              <a:t>Locations</a:t>
            </a: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 not </a:t>
            </a:r>
            <a:r>
              <a:rPr b="0" lang="en-US" sz="3600" spc="-1" strike="noStrike">
                <a:solidFill>
                  <a:srgbClr val="ff00ff"/>
                </a:solidFill>
                <a:latin typeface="Courier New"/>
                <a:ea typeface="Courier New"/>
              </a:rPr>
              <a:t>Actors</a:t>
            </a: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!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85" name=""/>
          <p:cNvSpPr/>
          <p:nvPr/>
        </p:nvSpPr>
        <p:spPr>
          <a:xfrm>
            <a:off x="1332000" y="4667400"/>
            <a:ext cx="100584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433e"/>
                </a:solidFill>
                <a:latin typeface="Courier New"/>
                <a:ea typeface="Courier New"/>
              </a:rPr>
              <a:t>ArrayList&lt;Location&gt; locs = gr.getOccupiedLocations();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433e"/>
                </a:solidFill>
                <a:latin typeface="Courier New"/>
                <a:ea typeface="Courier New"/>
              </a:rPr>
              <a:t>ArrayList&lt;Actor&gt; actors = new ArrayList&lt;Actor&gt;();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433e"/>
                </a:solidFill>
                <a:latin typeface="Courier New"/>
                <a:ea typeface="Courier New"/>
              </a:rPr>
              <a:t>for (Location loc:locs) 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433e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433e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49433e"/>
                </a:solidFill>
                <a:latin typeface="Courier New"/>
                <a:ea typeface="Courier New"/>
              </a:rPr>
              <a:t>actors.add( gr.get(loc) );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433e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7250400" y="8479800"/>
            <a:ext cx="4646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Courier New"/>
                <a:ea typeface="Courier New"/>
              </a:rPr>
              <a:t>getMoveLocations</a:t>
            </a: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 NOTE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-495360" y="1625760"/>
            <a:ext cx="10589760" cy="1618560"/>
            <a:chOff x="-495360" y="1625760"/>
            <a:chExt cx="10589760" cy="1618560"/>
          </a:xfrm>
        </p:grpSpPr>
        <p:sp>
          <p:nvSpPr>
            <p:cNvPr id="688" name=""/>
            <p:cNvSpPr/>
            <p:nvPr/>
          </p:nvSpPr>
          <p:spPr>
            <a:xfrm>
              <a:off x="-495360" y="1625760"/>
              <a:ext cx="97516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ff"/>
                  </a:solidFill>
                  <a:latin typeface="Bradley Hand ITC TT-Bold"/>
                  <a:ea typeface="Bradley Hand ITC TT-Bold"/>
                </a:rPr>
                <a:t>Usually you need info from the grid: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07360" y="2279520"/>
              <a:ext cx="718704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Grid gr = anActor.getGrid();</a:t>
              </a:r>
              <a:endParaRPr b="0" lang="en-US" sz="2800" spc="-1" strike="noStrike">
                <a:solidFill>
                  <a:srgbClr val="49433e"/>
                </a:solidFill>
                <a:latin typeface="Bradley Hand ITC TT-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Grid gr = this.getGrid();</a:t>
              </a:r>
              <a:endParaRPr b="0" lang="en-US" sz="28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-1943280" y="3492360"/>
            <a:ext cx="9752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Bradley Hand ITC TT-Bold"/>
                <a:ea typeface="Bradley Hand ITC TT-Bold"/>
              </a:rPr>
              <a:t>check if its valid first!</a:t>
            </a:r>
            <a:r>
              <a:rPr b="0" lang="en-US" sz="3600" spc="-1" strike="noStrike">
                <a:solidFill>
                  <a:srgbClr val="7f007f"/>
                </a:solidFill>
                <a:latin typeface="Bradley Hand ITC TT-Bold"/>
                <a:ea typeface="Bradley Hand ITC TT-Bold"/>
              </a:rPr>
              <a:t> 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91" name=""/>
          <p:cNvSpPr/>
          <p:nvPr/>
        </p:nvSpPr>
        <p:spPr>
          <a:xfrm>
            <a:off x="658800" y="4311720"/>
            <a:ext cx="1060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Courier New"/>
                <a:ea typeface="Courier New"/>
              </a:rPr>
              <a:t>if( gr.isValid(loc) &amp;&amp; gr.get(loc)==null  )...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92" name=""/>
          <p:cNvSpPr/>
          <p:nvPr/>
        </p:nvSpPr>
        <p:spPr>
          <a:xfrm>
            <a:off x="1192320" y="5149800"/>
            <a:ext cx="10604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( ! gr.isValid(loc)   ) 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;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93" name=""/>
          <p:cNvSpPr/>
          <p:nvPr/>
        </p:nvSpPr>
        <p:spPr>
          <a:xfrm>
            <a:off x="762120" y="679320"/>
            <a:ext cx="113792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ArrayList&lt;Location&gt; getMoveLocations() </a:t>
            </a:r>
            <a:endParaRPr b="0" lang="en-US" sz="30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94" name=""/>
          <p:cNvSpPr/>
          <p:nvPr/>
        </p:nvSpPr>
        <p:spPr>
          <a:xfrm>
            <a:off x="684360" y="6356520"/>
            <a:ext cx="122425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f007f"/>
                </a:solidFill>
                <a:latin typeface="Courier New"/>
                <a:ea typeface="Courier New"/>
              </a:rPr>
              <a:t>if( gr.isValid(loc)   ) </a:t>
            </a:r>
            <a:endParaRPr b="0" lang="en-US" sz="27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007f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7f007f"/>
                </a:solidFill>
                <a:latin typeface="Courier New"/>
                <a:ea typeface="Courier New"/>
              </a:rPr>
              <a:t>Location next = loc.getAdjacentLocation(Direction.NORTH);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7f"/>
                </a:solidFill>
                <a:latin typeface="Courier New"/>
                <a:ea typeface="Courier New"/>
              </a:rPr>
              <a:t>if (gr.isValid(next) )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7f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7f007f"/>
                </a:solidFill>
                <a:latin typeface="Courier New"/>
                <a:ea typeface="Courier New"/>
              </a:rPr>
              <a:t>locs.add(next);</a:t>
            </a:r>
            <a:endParaRPr b="0" lang="en-US" sz="24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5458680" y="8479800"/>
            <a:ext cx="6462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Critter’s </a:t>
            </a:r>
            <a:r>
              <a:rPr b="0" lang="en-US" sz="2800" spc="-1" strike="noStrike">
                <a:solidFill>
                  <a:srgbClr val="49433e"/>
                </a:solidFill>
                <a:latin typeface="Courier New"/>
                <a:ea typeface="Courier New"/>
              </a:rPr>
              <a:t>SelectMoveLocation</a:t>
            </a: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 NOTE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392040" y="1193760"/>
            <a:ext cx="11302920" cy="1758960"/>
            <a:chOff x="392040" y="1193760"/>
            <a:chExt cx="11302920" cy="1758960"/>
          </a:xfrm>
        </p:grpSpPr>
        <p:sp>
          <p:nvSpPr>
            <p:cNvPr id="697" name=""/>
            <p:cNvSpPr/>
            <p:nvPr/>
          </p:nvSpPr>
          <p:spPr>
            <a:xfrm>
              <a:off x="392040" y="1193760"/>
              <a:ext cx="9753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if a condtion requires “default” behavior: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89200" y="1987560"/>
              <a:ext cx="9905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if (something==true)</a:t>
              </a:r>
              <a:endParaRPr b="0" lang="en-US" sz="2800" spc="-1" strike="noStrike">
                <a:solidFill>
                  <a:srgbClr val="49433e"/>
                </a:solidFill>
                <a:latin typeface="Bradley Hand ITC TT-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      </a:t>
              </a:r>
              <a:r>
                <a:rPr b="1" lang="en-US" sz="28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return </a:t>
              </a:r>
              <a:r>
                <a:rPr b="1" lang="en-US" sz="28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super</a:t>
              </a:r>
              <a:r>
                <a:rPr b="1" lang="en-US" sz="28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.selectMoveLocation(locs);</a:t>
              </a:r>
              <a:endParaRPr b="0" lang="en-US" sz="28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963720" y="3086280"/>
            <a:ext cx="11416680" cy="1783800"/>
            <a:chOff x="963720" y="3086280"/>
            <a:chExt cx="11416680" cy="1783800"/>
          </a:xfrm>
        </p:grpSpPr>
        <p:sp>
          <p:nvSpPr>
            <p:cNvPr id="700" name=""/>
            <p:cNvSpPr/>
            <p:nvPr/>
          </p:nvSpPr>
          <p:spPr>
            <a:xfrm>
              <a:off x="963720" y="3086280"/>
              <a:ext cx="97531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random from the </a:t>
              </a:r>
              <a:r>
                <a:rPr b="0" lang="en-US" sz="24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locs ArrayList&lt;Location&gt;</a:t>
              </a: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 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76240" y="3904920"/>
              <a:ext cx="106041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int rand = (int)(</a:t>
              </a:r>
              <a:r>
                <a:rPr b="1" lang="en-US" sz="2800" spc="-1" strike="noStrike">
                  <a:solidFill>
                    <a:srgbClr val="ff7f00"/>
                  </a:solidFill>
                  <a:latin typeface="Courier New"/>
                  <a:ea typeface="Courier New"/>
                </a:rPr>
                <a:t>locs.size()*Math.random()</a:t>
              </a:r>
              <a:r>
                <a:rPr b="1" lang="en-US" sz="28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 );</a:t>
              </a:r>
              <a:endParaRPr b="0" lang="en-US" sz="2800" spc="-1" strike="noStrike">
                <a:solidFill>
                  <a:srgbClr val="49433e"/>
                </a:solidFill>
                <a:latin typeface="Bradley Hand ITC TT-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Location loc=locs.get(rand);</a:t>
              </a:r>
              <a:endParaRPr b="0" lang="en-US" sz="28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596880" y="69840"/>
            <a:ext cx="122810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Location selectMoveLocation(ArrayList&lt;Location&gt; locs) 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874800" y="5003640"/>
            <a:ext cx="11607840" cy="2825640"/>
            <a:chOff x="874800" y="5003640"/>
            <a:chExt cx="11607840" cy="2825640"/>
          </a:xfrm>
        </p:grpSpPr>
        <p:sp>
          <p:nvSpPr>
            <p:cNvPr id="704" name=""/>
            <p:cNvSpPr/>
            <p:nvPr/>
          </p:nvSpPr>
          <p:spPr>
            <a:xfrm>
              <a:off x="874800" y="5003640"/>
              <a:ext cx="1108728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To die: don’t </a:t>
              </a:r>
              <a:r>
                <a:rPr b="0" lang="en-US" sz="36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removeSelfFromGrid</a:t>
              </a: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-it changes state 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78120" y="5733720"/>
              <a:ext cx="10604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return </a:t>
              </a:r>
              <a:r>
                <a:rPr b="1" lang="en-US" sz="2800" spc="-1" strike="noStrike">
                  <a:solidFill>
                    <a:srgbClr val="ff00ff"/>
                  </a:solidFill>
                  <a:latin typeface="Courier New"/>
                  <a:ea typeface="Courier New"/>
                </a:rPr>
                <a:t>null</a:t>
              </a:r>
              <a:r>
                <a:rPr b="1" lang="en-US" sz="28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;</a:t>
              </a:r>
              <a:endParaRPr b="0" lang="en-US" sz="28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28960" y="6553080"/>
              <a:ext cx="9753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433e"/>
                  </a:solidFill>
                  <a:latin typeface="Bradley Hand ITC TT-Bold"/>
                  <a:ea typeface="Bradley Hand ITC TT-Bold"/>
                </a:rPr>
                <a:t>if you cant move, and want to live: </a:t>
              </a:r>
              <a:endParaRPr b="0" lang="en-US" sz="36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78120" y="7296120"/>
              <a:ext cx="10604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return </a:t>
              </a:r>
              <a:r>
                <a:rPr b="1" lang="en-US" sz="2800" spc="-1" strike="noStrike">
                  <a:solidFill>
                    <a:srgbClr val="ff00ff"/>
                  </a:solidFill>
                  <a:latin typeface="Courier New"/>
                  <a:ea typeface="Courier New"/>
                </a:rPr>
                <a:t>this.getLocation()</a:t>
              </a:r>
              <a:r>
                <a:rPr b="1" lang="en-US" sz="2800" spc="-1" strike="noStrike">
                  <a:solidFill>
                    <a:srgbClr val="49433e"/>
                  </a:solidFill>
                  <a:latin typeface="Courier New"/>
                  <a:ea typeface="Courier New"/>
                </a:rPr>
                <a:t>;</a:t>
              </a:r>
              <a:endParaRPr b="0" lang="en-US" sz="2800" spc="-1" strike="noStrike">
                <a:solidFill>
                  <a:srgbClr val="49433e"/>
                </a:solidFill>
                <a:latin typeface="Bradley Hand ITC TT-Bold"/>
              </a:endParaRPr>
            </a:p>
          </p:txBody>
        </p:sp>
      </p:grpSp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0109520" y="8479440"/>
            <a:ext cx="174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SUMMARY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09" name=""/>
          <p:cNvSpPr/>
          <p:nvPr/>
        </p:nvSpPr>
        <p:spPr>
          <a:xfrm>
            <a:off x="1904400" y="1407960"/>
            <a:ext cx="9207360" cy="54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cc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Know how each of the actors move and act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10" name=""/>
          <p:cNvSpPr/>
          <p:nvPr/>
        </p:nvSpPr>
        <p:spPr>
          <a:xfrm>
            <a:off x="2343240" y="2558880"/>
            <a:ext cx="8331120" cy="124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cc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Know the inheritance relationships between the actors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11" name=""/>
          <p:cNvSpPr/>
          <p:nvPr/>
        </p:nvSpPr>
        <p:spPr>
          <a:xfrm>
            <a:off x="2338560" y="4229280"/>
            <a:ext cx="833112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cc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Know how to write subclasses of 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bug or critter and how to modify 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their default methods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12" name=""/>
          <p:cNvSpPr/>
          <p:nvPr/>
        </p:nvSpPr>
        <p:spPr>
          <a:xfrm>
            <a:off x="2347920" y="6464160"/>
            <a:ext cx="8331120" cy="67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cc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Know how to use the quick reference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9596880" y="8479440"/>
            <a:ext cx="2174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THE CLASSE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216000" y="2311560"/>
            <a:ext cx="12558600" cy="3649680"/>
          </a:xfrm>
          <a:prstGeom prst="rect">
            <a:avLst/>
          </a:prstGeom>
          <a:ln w="0">
            <a:noFill/>
          </a:ln>
          <a:effectLst>
            <a:outerShdw dist="76226" dir="3653569" blurRad="0" rotWithShape="0">
              <a:srgbClr val="000000">
                <a:alpha val="75000"/>
              </a:srgbClr>
            </a:outerShdw>
          </a:effectLst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1120" y="698400"/>
            <a:ext cx="109220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ROCKS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41120" y="1689120"/>
            <a:ext cx="10922040" cy="401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do nothing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e Appendix 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Appendix B4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11" name=""/>
          <p:cNvSpPr/>
          <p:nvPr/>
        </p:nvSpPr>
        <p:spPr>
          <a:xfrm>
            <a:off x="5334120" y="2712600"/>
            <a:ext cx="650556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public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class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Rock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extends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Actor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{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private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static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final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Color DEFAULT_COLOR = Color.BLACK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/**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* Constructs a black rock.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*/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public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Rock()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{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setColor(DEFAULT_COLOR)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}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/**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* Constructs a rock of a given color.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* </a:t>
            </a:r>
            <a:r>
              <a:rPr b="0" lang="en-US" sz="1100" spc="-1" strike="noStrike">
                <a:solidFill>
                  <a:srgbClr val="023d10"/>
                </a:solidFill>
                <a:latin typeface="Menlo Regular"/>
                <a:ea typeface="Menlo Regular"/>
              </a:rPr>
              <a:t>@param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rockColor the color of this rock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*/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public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Rock(Color rockColor)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{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setColor(rockColor)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}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/**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* Overrides the &lt;code&gt;act&lt;/code&gt; method in the &lt;code&gt;Actor&lt;/code&gt; class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* to do nothing.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     </a:t>
            </a:r>
            <a:r>
              <a:rPr b="0" lang="en-US" sz="1100" spc="-1" strike="noStrike">
                <a:solidFill>
                  <a:srgbClr val="007400"/>
                </a:solidFill>
                <a:latin typeface="Menlo Regular"/>
                <a:ea typeface="Menlo Regular"/>
              </a:rPr>
              <a:t>*/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public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void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act()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{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}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}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FLOWERs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1120" y="5245200"/>
            <a:ext cx="109220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darken in color- see Appendix B4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14" name=""/>
          <p:cNvSpPr/>
          <p:nvPr/>
        </p:nvSpPr>
        <p:spPr>
          <a:xfrm>
            <a:off x="4940280" y="6890760"/>
            <a:ext cx="566424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public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void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act()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{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Color c = getColor()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int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red = (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int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) (c.getRed() * (</a:t>
            </a:r>
            <a:r>
              <a:rPr b="0" lang="en-US" sz="1100" spc="-1" strike="noStrike">
                <a:solidFill>
                  <a:srgbClr val="1c00cf"/>
                </a:solidFill>
                <a:latin typeface="Menlo Regular"/>
                <a:ea typeface="Menlo Regular"/>
              </a:rPr>
              <a:t>1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- DARKENING_FACTOR))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int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green = (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int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) (c.getGreen() * (</a:t>
            </a:r>
            <a:r>
              <a:rPr b="0" lang="en-US" sz="1100" spc="-1" strike="noStrike">
                <a:solidFill>
                  <a:srgbClr val="1c00cf"/>
                </a:solidFill>
                <a:latin typeface="Menlo Regular"/>
                <a:ea typeface="Menlo Regular"/>
              </a:rPr>
              <a:t>1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- DARKENING_FACTOR))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int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blue = (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int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) (c.getBlue() * (</a:t>
            </a:r>
            <a:r>
              <a:rPr b="0" lang="en-US" sz="1100" spc="-1" strike="noStrike">
                <a:solidFill>
                  <a:srgbClr val="1c00cf"/>
                </a:solidFill>
                <a:latin typeface="Menlo Regular"/>
                <a:ea typeface="Menlo Regular"/>
              </a:rPr>
              <a:t>1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- DARKENING_FACTOR))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setColor(</a:t>
            </a:r>
            <a:r>
              <a:rPr b="0" lang="en-US" sz="1100" spc="-1" strike="noStrike">
                <a:solidFill>
                  <a:srgbClr val="aa0d91"/>
                </a:solidFill>
                <a:latin typeface="Menlo Regular"/>
                <a:ea typeface="Menlo Regular"/>
              </a:rPr>
              <a:t>new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Color(red, green, blue));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    </a:t>
            </a:r>
            <a:r>
              <a:rPr b="0" lang="en-US" sz="1100" spc="-1" strike="noStrike">
                <a:solidFill>
                  <a:srgbClr val="49433e"/>
                </a:solidFill>
                <a:latin typeface="Menlo Regular"/>
                <a:ea typeface="Menlo Regular"/>
              </a:rPr>
              <a:t>}</a:t>
            </a: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5651640"/>
            <a:ext cx="11694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CODE NOT IN APPENDIX (BLACK BOX)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4635360" y="787320"/>
            <a:ext cx="3721320" cy="37213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4"/>
          <a:stretch/>
        </p:blipFill>
        <p:spPr>
          <a:xfrm>
            <a:off x="5143680" y="203040"/>
            <a:ext cx="139680" cy="11052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5"/>
          <a:stretch/>
        </p:blipFill>
        <p:spPr>
          <a:xfrm>
            <a:off x="4280040" y="1041480"/>
            <a:ext cx="139680" cy="11048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6"/>
          <a:stretch/>
        </p:blipFill>
        <p:spPr>
          <a:xfrm>
            <a:off x="6350040" y="203040"/>
            <a:ext cx="114120" cy="11052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7"/>
          <a:stretch/>
        </p:blipFill>
        <p:spPr>
          <a:xfrm>
            <a:off x="4305240" y="2324160"/>
            <a:ext cx="114480" cy="11048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8"/>
          <a:stretch/>
        </p:blipFill>
        <p:spPr>
          <a:xfrm>
            <a:off x="7607160" y="228600"/>
            <a:ext cx="139680" cy="11048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9"/>
          <a:stretch/>
        </p:blipFill>
        <p:spPr>
          <a:xfrm>
            <a:off x="4317840" y="3492360"/>
            <a:ext cx="140040" cy="1105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1311200" y="8479440"/>
            <a:ext cx="639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GUI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2197080" y="507960"/>
            <a:ext cx="7670880" cy="750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1120" y="1828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BUG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1120" y="5245200"/>
            <a:ext cx="1092204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ries to go forward,  leaves a flower in old location, eats(removes) flower in new location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if Blocked turn rights 45° (non-flowers block)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ode in appendix on pages C1-C2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0" algn="ctr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Gridworld.ppt_media/BlueJ Virtual MachineScreenSnapz002-1.mov" descr=""/>
          <p:cNvPicPr/>
          <p:nvPr/>
        </p:nvPicPr>
        <p:blipFill>
          <a:blip r:embed="rId2"/>
          <a:stretch/>
        </p:blipFill>
        <p:spPr>
          <a:xfrm>
            <a:off x="3174840" y="787320"/>
            <a:ext cx="6654960" cy="817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